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9E3B-673B-45CE-B1AA-CE5D5C6C6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pairing up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imation of DNA unzipping will proceed on it’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7E7-7589-455A-86EC-69E2E18D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FB8-1AAD-487C-B345-CF25C595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E59-395E-40B5-AAA8-216F2B9A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D92-4185-44C2-9B7D-EA967656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184D-1F99-47DE-9BC7-AF450FD2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28A4-769E-46A8-83B2-105DCFAE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BBE7-7310-4D86-82F4-8B830D2B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E622-BDCA-459C-B81D-B53A6EE0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BF77-5406-435B-92DB-DC20A4C5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7348-521F-4203-9FCD-78C76D0B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2556-F4B2-4A9B-B95D-05692EF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13C-65C9-49A9-B158-A26AA610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3882-9F54-4419-AD62-A8D542EA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FF48-A528-4C4F-9004-067CE61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9DB4-D348-4E8B-8558-E81F960C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3091-89FD-4930-AF1B-DEAD797C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A1D2-54A6-481D-A69F-43B035D1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BC9-5557-4D7D-8457-DF9F2447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88C-80C5-47EB-8445-1D8B151E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8C2-8390-444A-9AE0-5A5B94EA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275-CF46-4ECF-9AF8-E670E9B2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23D-9C37-49AD-8503-1C508F5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A99-0B17-4E0B-B920-8EA0543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B04-2EF2-4241-AE66-FF13CFC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dna63" descr=""/>
            <p:cNvPicPr/>
            <p:nvPr/>
          </p:nvPicPr>
          <p:blipFill>
            <a:blip r:embed="rId2"/>
            <a:stretch/>
          </p:blipFill>
          <p:spPr>
            <a:xfrm>
              <a:off x="0" y="1781280"/>
              <a:ext cx="9144000" cy="25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dna6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dna63" descr=""/>
            <p:cNvPicPr/>
            <p:nvPr/>
          </p:nvPicPr>
          <p:blipFill>
            <a:blip r:embed="rId4"/>
            <a:stretch/>
          </p:blipFill>
          <p:spPr>
            <a:xfrm>
              <a:off x="0" y="4295880"/>
              <a:ext cx="9144000" cy="25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afa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CAF-3A8C-49A4-9CBF-F0A8BD145F27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6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7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025D-9279-49D2-AB0F-D0AE2BAED84F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0" y="30492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fafa"/>
                </a:solidFill>
                <a:latin typeface="Times New Roman"/>
              </a:rPr>
              <a:t>DNA Replication</a:t>
            </a:r>
            <a:endParaRPr b="1" i="1" lang="en-US" sz="6000" spc="-1" strike="noStrike">
              <a:solidFill>
                <a:srgbClr val="f8fafa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81280" y="4884840"/>
          <a:ext cx="71136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884840"/>
                    <a:ext cx="71136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099040" y="4867200"/>
          <a:ext cx="750960" cy="16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9040" y="4867200"/>
                    <a:ext cx="75096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3895560" y="3656160"/>
            <a:ext cx="1523880" cy="1143000"/>
            <a:chOff x="3895560" y="3656160"/>
            <a:chExt cx="1523880" cy="1143000"/>
          </a:xfrm>
        </p:grpSpPr>
        <p:sp>
          <p:nvSpPr>
            <p:cNvPr id="101" name=""/>
            <p:cNvSpPr/>
            <p:nvPr/>
          </p:nvSpPr>
          <p:spPr>
            <a:xfrm flipH="1">
              <a:off x="3895560" y="3656160"/>
              <a:ext cx="838080" cy="1143000"/>
            </a:xfrm>
            <a:prstGeom prst="line">
              <a:avLst/>
            </a:prstGeom>
            <a:ln w="19080">
              <a:solidFill>
                <a:srgbClr val="f8faf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33640" y="3656160"/>
              <a:ext cx="685800" cy="1066680"/>
            </a:xfrm>
            <a:prstGeom prst="line">
              <a:avLst/>
            </a:prstGeom>
            <a:ln w="19080">
              <a:solidFill>
                <a:srgbClr val="f8faf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4316400" y="2057400"/>
          <a:ext cx="750960" cy="16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2057400"/>
                    <a:ext cx="75096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362320" y="1676520"/>
            <a:ext cx="62481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the DNA double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helix begins to “unzip”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286000" y="3581280"/>
            <a:ext cx="6858000" cy="2227680"/>
            <a:chOff x="2286000" y="3581280"/>
            <a:chExt cx="6858000" cy="2227680"/>
          </a:xfrm>
        </p:grpSpPr>
        <p:sp>
          <p:nvSpPr>
            <p:cNvPr id="491" name=""/>
            <p:cNvSpPr/>
            <p:nvPr/>
          </p:nvSpPr>
          <p:spPr>
            <a:xfrm>
              <a:off x="2286000" y="3581280"/>
              <a:ext cx="6858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001"/>
                </a:spcBef>
                <a:buClr>
                  <a:srgbClr val="f8fafa"/>
                </a:buClr>
                <a:buFont typeface="Times New Roman"/>
                <a:buAutoNum type="alpha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DNA nucleotides are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24080" y="5105520"/>
              <a:ext cx="434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DNA strand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8120" y="4343400"/>
              <a:ext cx="487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added to each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0" y="711360"/>
            <a:ext cx="2376360" cy="3529440"/>
            <a:chOff x="0" y="711360"/>
            <a:chExt cx="2376360" cy="3529440"/>
          </a:xfrm>
        </p:grpSpPr>
        <p:grpSp>
          <p:nvGrpSpPr>
            <p:cNvPr id="497" name=""/>
            <p:cNvGrpSpPr/>
            <p:nvPr/>
          </p:nvGrpSpPr>
          <p:grpSpPr>
            <a:xfrm>
              <a:off x="0" y="711360"/>
              <a:ext cx="2376360" cy="3529440"/>
              <a:chOff x="0" y="711360"/>
              <a:chExt cx="2376360" cy="3529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0" y="711360"/>
                <a:ext cx="2042640" cy="1002960"/>
                <a:chOff x="0" y="711360"/>
                <a:chExt cx="2042640" cy="100296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1298160" y="851400"/>
                  <a:ext cx="744480" cy="677880"/>
                  <a:chOff x="1298160" y="851400"/>
                  <a:chExt cx="744480" cy="677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0988600">
                    <a:off x="1564920" y="100404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298160" y="85140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 flipH="1">
                  <a:off x="1037520" y="131904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22200">
                  <a:off x="185040" y="103824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0" y="71136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 flipV="1">
                  <a:off x="185400" y="99180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1631880" y="3377880"/>
                <a:ext cx="744480" cy="677880"/>
                <a:chOff x="1631880" y="3377880"/>
                <a:chExt cx="744480" cy="677880"/>
              </a:xfrm>
            </p:grpSpPr>
            <p:sp>
              <p:nvSpPr>
                <p:cNvPr id="507" name=""/>
                <p:cNvSpPr/>
                <p:nvPr/>
              </p:nvSpPr>
              <p:spPr>
                <a:xfrm rot="20988600">
                  <a:off x="1898640" y="3530520"/>
                  <a:ext cx="437400" cy="4899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631880" y="3377880"/>
                  <a:ext cx="340200" cy="4593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flipH="1" flipV="1">
                <a:off x="1370880" y="3846600"/>
                <a:ext cx="332640" cy="75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2200">
                <a:off x="518760" y="3564720"/>
                <a:ext cx="849960" cy="6732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33720" y="3237480"/>
                <a:ext cx="32040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519120" y="35182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185400" y="1974240"/>
                <a:ext cx="2042640" cy="1002960"/>
                <a:chOff x="185400" y="1974240"/>
                <a:chExt cx="2042640" cy="100296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1483560" y="2114280"/>
                  <a:ext cx="744480" cy="677880"/>
                  <a:chOff x="1483560" y="2114280"/>
                  <a:chExt cx="744480" cy="6778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20988600">
                    <a:off x="1750320" y="226692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483560" y="211428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7" name=""/>
                <p:cNvSpPr/>
                <p:nvPr/>
              </p:nvSpPr>
              <p:spPr>
                <a:xfrm flipH="1">
                  <a:off x="1222920" y="258192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22200">
                  <a:off x="370440" y="230112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85400" y="197424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 flipV="1">
                  <a:off x="370800" y="225468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 flipH="1" flipV="1">
                <a:off x="333720" y="169380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519120" y="29566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9800" y="356220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527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529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537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545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20520"/>
            <a:ext cx="91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0" y="711360"/>
            <a:ext cx="2376360" cy="3529440"/>
            <a:chOff x="0" y="711360"/>
            <a:chExt cx="2376360" cy="3529440"/>
          </a:xfrm>
        </p:grpSpPr>
        <p:grpSp>
          <p:nvGrpSpPr>
            <p:cNvPr id="559" name=""/>
            <p:cNvGrpSpPr/>
            <p:nvPr/>
          </p:nvGrpSpPr>
          <p:grpSpPr>
            <a:xfrm>
              <a:off x="0" y="711360"/>
              <a:ext cx="2376360" cy="3529440"/>
              <a:chOff x="0" y="711360"/>
              <a:chExt cx="2376360" cy="352944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0" y="711360"/>
                <a:ext cx="2042640" cy="1002960"/>
                <a:chOff x="0" y="711360"/>
                <a:chExt cx="2042640" cy="100296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1298160" y="851400"/>
                  <a:ext cx="744480" cy="677880"/>
                  <a:chOff x="1298160" y="851400"/>
                  <a:chExt cx="744480" cy="677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20988600">
                    <a:off x="1564920" y="100404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298160" y="85140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4" name=""/>
                <p:cNvSpPr/>
                <p:nvPr/>
              </p:nvSpPr>
              <p:spPr>
                <a:xfrm flipH="1">
                  <a:off x="1037520" y="131904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22200">
                  <a:off x="185040" y="103824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0" y="71136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>
                  <a:off x="185400" y="99180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1631880" y="3377880"/>
                <a:ext cx="744480" cy="677880"/>
                <a:chOff x="1631880" y="3377880"/>
                <a:chExt cx="744480" cy="677880"/>
              </a:xfrm>
            </p:grpSpPr>
            <p:sp>
              <p:nvSpPr>
                <p:cNvPr id="569" name=""/>
                <p:cNvSpPr/>
                <p:nvPr/>
              </p:nvSpPr>
              <p:spPr>
                <a:xfrm rot="20988600">
                  <a:off x="1898640" y="3530520"/>
                  <a:ext cx="437400" cy="4899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631880" y="3377880"/>
                  <a:ext cx="340200" cy="4593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 flipH="1" flipV="1">
                <a:off x="1370880" y="3846600"/>
                <a:ext cx="332640" cy="75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2200">
                <a:off x="518760" y="3564720"/>
                <a:ext cx="849960" cy="6732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33720" y="3237480"/>
                <a:ext cx="32040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flipV="1">
                <a:off x="519120" y="35182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185400" y="1974240"/>
                <a:ext cx="2042640" cy="1002960"/>
                <a:chOff x="185400" y="1974240"/>
                <a:chExt cx="2042640" cy="100296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1483560" y="2114280"/>
                  <a:ext cx="744480" cy="677880"/>
                  <a:chOff x="1483560" y="2114280"/>
                  <a:chExt cx="744480" cy="6778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20988600">
                    <a:off x="1750320" y="226692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483560" y="211428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9" name=""/>
                <p:cNvSpPr/>
                <p:nvPr/>
              </p:nvSpPr>
              <p:spPr>
                <a:xfrm flipH="1">
                  <a:off x="1222920" y="258192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22200">
                  <a:off x="370440" y="230112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85400" y="197424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flipV="1">
                  <a:off x="370800" y="225468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 flipH="1" flipV="1">
                <a:off x="333720" y="169380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519120" y="29566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9800" y="356220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590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591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598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600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608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616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-360" y="36000"/>
            <a:ext cx="9093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711360"/>
            <a:ext cx="2376360" cy="3529440"/>
            <a:chOff x="0" y="711360"/>
            <a:chExt cx="2376360" cy="3529440"/>
          </a:xfrm>
        </p:grpSpPr>
        <p:grpSp>
          <p:nvGrpSpPr>
            <p:cNvPr id="632" name=""/>
            <p:cNvGrpSpPr/>
            <p:nvPr/>
          </p:nvGrpSpPr>
          <p:grpSpPr>
            <a:xfrm>
              <a:off x="0" y="711360"/>
              <a:ext cx="2376360" cy="3529440"/>
              <a:chOff x="0" y="711360"/>
              <a:chExt cx="2376360" cy="352944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0" y="711360"/>
                <a:ext cx="2042640" cy="1002960"/>
                <a:chOff x="0" y="711360"/>
                <a:chExt cx="2042640" cy="100296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1298160" y="851400"/>
                  <a:ext cx="744480" cy="677880"/>
                  <a:chOff x="1298160" y="851400"/>
                  <a:chExt cx="744480" cy="67788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20988600">
                    <a:off x="1564920" y="100404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298160" y="85140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 flipH="1">
                  <a:off x="1037520" y="131904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22200">
                  <a:off x="185040" y="103824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0" y="71136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flipV="1">
                  <a:off x="185400" y="99180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1631880" y="3377880"/>
                <a:ext cx="744480" cy="677880"/>
                <a:chOff x="1631880" y="3377880"/>
                <a:chExt cx="744480" cy="677880"/>
              </a:xfrm>
            </p:grpSpPr>
            <p:sp>
              <p:nvSpPr>
                <p:cNvPr id="642" name=""/>
                <p:cNvSpPr/>
                <p:nvPr/>
              </p:nvSpPr>
              <p:spPr>
                <a:xfrm rot="20988600">
                  <a:off x="1898640" y="3530520"/>
                  <a:ext cx="437400" cy="4899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631880" y="3377880"/>
                  <a:ext cx="340200" cy="4593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 flipH="1" flipV="1">
                <a:off x="1370880" y="3846600"/>
                <a:ext cx="332640" cy="75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2200">
                <a:off x="518760" y="3564720"/>
                <a:ext cx="849960" cy="6732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33720" y="3237480"/>
                <a:ext cx="32040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519120" y="35182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185400" y="1974240"/>
                <a:ext cx="2042640" cy="1002960"/>
                <a:chOff x="185400" y="1974240"/>
                <a:chExt cx="2042640" cy="100296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1483560" y="2114280"/>
                  <a:ext cx="744480" cy="677880"/>
                  <a:chOff x="1483560" y="2114280"/>
                  <a:chExt cx="744480" cy="67788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rot="20988600">
                    <a:off x="1750320" y="226692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1483560" y="211428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2" name=""/>
                <p:cNvSpPr/>
                <p:nvPr/>
              </p:nvSpPr>
              <p:spPr>
                <a:xfrm flipH="1">
                  <a:off x="1222920" y="258192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22200">
                  <a:off x="370440" y="230112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85400" y="197424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>
                  <a:off x="370800" y="225468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 flipH="1" flipV="1">
                <a:off x="333720" y="169380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>
                <a:off x="519120" y="29566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09800" y="356220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663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664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671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672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679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681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689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697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-360" y="36000"/>
            <a:ext cx="9093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0" y="711360"/>
            <a:ext cx="2376360" cy="3529440"/>
            <a:chOff x="0" y="711360"/>
            <a:chExt cx="2376360" cy="3529440"/>
          </a:xfrm>
        </p:grpSpPr>
        <p:grpSp>
          <p:nvGrpSpPr>
            <p:cNvPr id="716" name=""/>
            <p:cNvGrpSpPr/>
            <p:nvPr/>
          </p:nvGrpSpPr>
          <p:grpSpPr>
            <a:xfrm>
              <a:off x="0" y="711360"/>
              <a:ext cx="2376360" cy="3529440"/>
              <a:chOff x="0" y="711360"/>
              <a:chExt cx="2376360" cy="352944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0" y="711360"/>
                <a:ext cx="2042640" cy="1002960"/>
                <a:chOff x="0" y="711360"/>
                <a:chExt cx="2042640" cy="100296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1298160" y="851400"/>
                  <a:ext cx="744480" cy="677880"/>
                  <a:chOff x="1298160" y="851400"/>
                  <a:chExt cx="744480" cy="67788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rot="20988600">
                    <a:off x="1564920" y="100404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98160" y="85140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1" name=""/>
                <p:cNvSpPr/>
                <p:nvPr/>
              </p:nvSpPr>
              <p:spPr>
                <a:xfrm flipH="1">
                  <a:off x="1037520" y="131904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rot="22200">
                  <a:off x="185040" y="103824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0" y="71136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flipV="1">
                  <a:off x="185400" y="99180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1631880" y="3377880"/>
                <a:ext cx="744480" cy="677880"/>
                <a:chOff x="1631880" y="3377880"/>
                <a:chExt cx="744480" cy="677880"/>
              </a:xfrm>
            </p:grpSpPr>
            <p:sp>
              <p:nvSpPr>
                <p:cNvPr id="726" name=""/>
                <p:cNvSpPr/>
                <p:nvPr/>
              </p:nvSpPr>
              <p:spPr>
                <a:xfrm rot="20988600">
                  <a:off x="1898640" y="3530520"/>
                  <a:ext cx="437400" cy="4899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631880" y="3377880"/>
                  <a:ext cx="340200" cy="45936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 flipH="1" flipV="1">
                <a:off x="1370880" y="3846600"/>
                <a:ext cx="332640" cy="75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2200">
                <a:off x="518760" y="3564720"/>
                <a:ext cx="849960" cy="6732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33720" y="3237480"/>
                <a:ext cx="32040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519120" y="35182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732" name=""/>
              <p:cNvGrpSpPr/>
              <p:nvPr/>
            </p:nvGrpSpPr>
            <p:grpSpPr>
              <a:xfrm>
                <a:off x="185400" y="1974240"/>
                <a:ext cx="2042640" cy="1002960"/>
                <a:chOff x="185400" y="1974240"/>
                <a:chExt cx="2042640" cy="100296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1483560" y="2114280"/>
                  <a:ext cx="744480" cy="677880"/>
                  <a:chOff x="1483560" y="2114280"/>
                  <a:chExt cx="744480" cy="67788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rot="20988600">
                    <a:off x="1750320" y="2266920"/>
                    <a:ext cx="437400" cy="4899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483560" y="2114280"/>
                    <a:ext cx="340200" cy="4593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6" name=""/>
                <p:cNvSpPr/>
                <p:nvPr/>
              </p:nvSpPr>
              <p:spPr>
                <a:xfrm flipH="1">
                  <a:off x="1222920" y="2581920"/>
                  <a:ext cx="333720" cy="216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rot="22200">
                  <a:off x="370440" y="2301120"/>
                  <a:ext cx="849960" cy="6732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85400" y="1974240"/>
                  <a:ext cx="320400" cy="289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 flipV="1">
                  <a:off x="370800" y="2254680"/>
                  <a:ext cx="10800" cy="3060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 flipH="1" flipV="1">
                <a:off x="333720" y="169380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519120" y="295668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09800" y="356220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747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748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755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756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715480" y="3081240"/>
            <a:ext cx="2012040" cy="1373760"/>
            <a:chOff x="2715480" y="3081240"/>
            <a:chExt cx="2012040" cy="1373760"/>
          </a:xfrm>
        </p:grpSpPr>
        <p:grpSp>
          <p:nvGrpSpPr>
            <p:cNvPr id="763" name=""/>
            <p:cNvGrpSpPr/>
            <p:nvPr/>
          </p:nvGrpSpPr>
          <p:grpSpPr>
            <a:xfrm>
              <a:off x="2715480" y="3413880"/>
              <a:ext cx="2012040" cy="1041120"/>
              <a:chOff x="2715480" y="3413880"/>
              <a:chExt cx="2012040" cy="1041120"/>
            </a:xfrm>
          </p:grpSpPr>
          <p:sp>
            <p:nvSpPr>
              <p:cNvPr id="764" name=""/>
              <p:cNvSpPr/>
              <p:nvPr/>
            </p:nvSpPr>
            <p:spPr>
              <a:xfrm rot="10280400">
                <a:off x="2748960" y="35938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46480" y="38203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0914000">
                <a:off x="3621240" y="3429360"/>
                <a:ext cx="950760" cy="6696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0891200">
                <a:off x="4365000" y="416232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559040" y="38678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4380840" y="3081240"/>
              <a:ext cx="8640" cy="35208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94680" y="3657960"/>
              <a:ext cx="396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2368440" y="3741840"/>
            <a:ext cx="424080" cy="11736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773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775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783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8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791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36360"/>
            <a:ext cx="90932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631880" y="3378240"/>
            <a:ext cx="744120" cy="677520"/>
            <a:chOff x="1631880" y="3378240"/>
            <a:chExt cx="744120" cy="677520"/>
          </a:xfrm>
        </p:grpSpPr>
        <p:sp>
          <p:nvSpPr>
            <p:cNvPr id="807" name=""/>
            <p:cNvSpPr/>
            <p:nvPr/>
          </p:nvSpPr>
          <p:spPr>
            <a:xfrm rot="20988600">
              <a:off x="1898640" y="3530880"/>
              <a:ext cx="437400" cy="489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31880" y="3378240"/>
              <a:ext cx="340200" cy="459360"/>
            </a:xfrm>
            <a:prstGeom prst="pentagon">
              <a:avLst/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rot="22200">
            <a:off x="518760" y="3565080"/>
            <a:ext cx="851040" cy="67320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33360" y="3236760"/>
            <a:ext cx="320760" cy="290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518760" y="351756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85760" y="1974960"/>
            <a:ext cx="2042640" cy="1002600"/>
            <a:chOff x="185760" y="1974960"/>
            <a:chExt cx="2042640" cy="1002600"/>
          </a:xfrm>
        </p:grpSpPr>
        <p:grpSp>
          <p:nvGrpSpPr>
            <p:cNvPr id="813" name=""/>
            <p:cNvGrpSpPr/>
            <p:nvPr/>
          </p:nvGrpSpPr>
          <p:grpSpPr>
            <a:xfrm>
              <a:off x="1484280" y="2115000"/>
              <a:ext cx="744120" cy="677520"/>
              <a:chOff x="1484280" y="2115000"/>
              <a:chExt cx="744120" cy="677520"/>
            </a:xfrm>
          </p:grpSpPr>
          <p:sp>
            <p:nvSpPr>
              <p:cNvPr id="814" name=""/>
              <p:cNvSpPr/>
              <p:nvPr/>
            </p:nvSpPr>
            <p:spPr>
              <a:xfrm rot="20988600">
                <a:off x="1751040" y="2267640"/>
                <a:ext cx="437400" cy="4896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484280" y="2115000"/>
                <a:ext cx="340200" cy="45900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 flipH="1">
              <a:off x="1223280" y="2582280"/>
              <a:ext cx="333720" cy="21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22200">
              <a:off x="370800" y="2301840"/>
              <a:ext cx="850320" cy="67284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5760" y="1974960"/>
              <a:ext cx="320760" cy="28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371160" y="2255040"/>
              <a:ext cx="10800" cy="305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 flipH="1" flipV="1">
            <a:off x="333000" y="169344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518760" y="2957040"/>
            <a:ext cx="11160" cy="30492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0" y="711360"/>
            <a:ext cx="2043000" cy="1003680"/>
            <a:chOff x="0" y="711360"/>
            <a:chExt cx="2043000" cy="1003680"/>
          </a:xfrm>
        </p:grpSpPr>
        <p:grpSp>
          <p:nvGrpSpPr>
            <p:cNvPr id="823" name=""/>
            <p:cNvGrpSpPr/>
            <p:nvPr/>
          </p:nvGrpSpPr>
          <p:grpSpPr>
            <a:xfrm>
              <a:off x="0" y="711360"/>
              <a:ext cx="2043000" cy="1003680"/>
              <a:chOff x="0" y="711360"/>
              <a:chExt cx="2043000" cy="100368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1298520" y="851760"/>
                <a:ext cx="744480" cy="678600"/>
                <a:chOff x="1298520" y="851760"/>
                <a:chExt cx="744480" cy="678600"/>
              </a:xfrm>
            </p:grpSpPr>
            <p:sp>
              <p:nvSpPr>
                <p:cNvPr id="825" name=""/>
                <p:cNvSpPr/>
                <p:nvPr/>
              </p:nvSpPr>
              <p:spPr>
                <a:xfrm rot="20988600">
                  <a:off x="1565280" y="1004760"/>
                  <a:ext cx="437400" cy="4903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298520" y="851760"/>
                  <a:ext cx="340200" cy="45972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" name=""/>
              <p:cNvSpPr/>
              <p:nvPr/>
            </p:nvSpPr>
            <p:spPr>
              <a:xfrm flipH="1">
                <a:off x="1037520" y="131976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2200">
                <a:off x="185040" y="1038600"/>
                <a:ext cx="850320" cy="673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711360"/>
                <a:ext cx="32076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flipV="1">
                <a:off x="185400" y="99216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1573200" y="10382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741320" y="2316240"/>
            <a:ext cx="389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G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09800" y="3562200"/>
            <a:ext cx="398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G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836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837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844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845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2715480" y="3081240"/>
            <a:ext cx="2012040" cy="1373760"/>
            <a:chOff x="2715480" y="3081240"/>
            <a:chExt cx="2012040" cy="1373760"/>
          </a:xfrm>
        </p:grpSpPr>
        <p:grpSp>
          <p:nvGrpSpPr>
            <p:cNvPr id="852" name=""/>
            <p:cNvGrpSpPr/>
            <p:nvPr/>
          </p:nvGrpSpPr>
          <p:grpSpPr>
            <a:xfrm>
              <a:off x="2715480" y="3413880"/>
              <a:ext cx="2012040" cy="1041120"/>
              <a:chOff x="2715480" y="3413880"/>
              <a:chExt cx="2012040" cy="1041120"/>
            </a:xfrm>
          </p:grpSpPr>
          <p:sp>
            <p:nvSpPr>
              <p:cNvPr id="853" name=""/>
              <p:cNvSpPr/>
              <p:nvPr/>
            </p:nvSpPr>
            <p:spPr>
              <a:xfrm rot="10280400">
                <a:off x="2748960" y="35938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246480" y="38203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0914000">
                <a:off x="3621240" y="3429360"/>
                <a:ext cx="950760" cy="6696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0891200">
                <a:off x="4365000" y="416232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559040" y="38678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 flipV="1">
              <a:off x="4380840" y="3081240"/>
              <a:ext cx="8640" cy="35208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94680" y="3657960"/>
              <a:ext cx="396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2368440" y="3741840"/>
            <a:ext cx="424080" cy="11736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862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863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864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9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872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879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880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4452840" y="695160"/>
            <a:ext cx="2043000" cy="1003680"/>
            <a:chOff x="4452840" y="695160"/>
            <a:chExt cx="2043000" cy="1003680"/>
          </a:xfrm>
        </p:grpSpPr>
        <p:grpSp>
          <p:nvGrpSpPr>
            <p:cNvPr id="888" name=""/>
            <p:cNvGrpSpPr/>
            <p:nvPr/>
          </p:nvGrpSpPr>
          <p:grpSpPr>
            <a:xfrm>
              <a:off x="4452840" y="695160"/>
              <a:ext cx="2043000" cy="1003680"/>
              <a:chOff x="4452840" y="695160"/>
              <a:chExt cx="2043000" cy="100368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5751360" y="835560"/>
                <a:ext cx="744480" cy="678600"/>
                <a:chOff x="5751360" y="835560"/>
                <a:chExt cx="744480" cy="678600"/>
              </a:xfrm>
            </p:grpSpPr>
            <p:sp>
              <p:nvSpPr>
                <p:cNvPr id="890" name=""/>
                <p:cNvSpPr/>
                <p:nvPr/>
              </p:nvSpPr>
              <p:spPr>
                <a:xfrm rot="20988600">
                  <a:off x="6018120" y="988560"/>
                  <a:ext cx="437400" cy="4903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751360" y="835560"/>
                  <a:ext cx="340200" cy="45972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2" name=""/>
              <p:cNvSpPr/>
              <p:nvPr/>
            </p:nvSpPr>
            <p:spPr>
              <a:xfrm flipH="1">
                <a:off x="5490360" y="130356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2200">
                <a:off x="4637880" y="1022400"/>
                <a:ext cx="850320" cy="673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52840" y="695160"/>
                <a:ext cx="32076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flipV="1">
                <a:off x="4638240" y="97596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6026040" y="10220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6469200" y="1201680"/>
            <a:ext cx="304560" cy="1764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875120" y="486396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Lef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-360" y="36000"/>
            <a:ext cx="90932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875120" y="486396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Lef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0" y="711360"/>
            <a:ext cx="2043000" cy="1003680"/>
            <a:chOff x="0" y="711360"/>
            <a:chExt cx="2043000" cy="1003680"/>
          </a:xfrm>
        </p:grpSpPr>
        <p:grpSp>
          <p:nvGrpSpPr>
            <p:cNvPr id="909" name=""/>
            <p:cNvGrpSpPr/>
            <p:nvPr/>
          </p:nvGrpSpPr>
          <p:grpSpPr>
            <a:xfrm>
              <a:off x="1298520" y="851760"/>
              <a:ext cx="744480" cy="678600"/>
              <a:chOff x="1298520" y="851760"/>
              <a:chExt cx="744480" cy="678600"/>
            </a:xfrm>
          </p:grpSpPr>
          <p:sp>
            <p:nvSpPr>
              <p:cNvPr id="910" name=""/>
              <p:cNvSpPr/>
              <p:nvPr/>
            </p:nvSpPr>
            <p:spPr>
              <a:xfrm rot="20988600">
                <a:off x="1565280" y="1004760"/>
                <a:ext cx="437400" cy="4903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298520" y="851760"/>
                <a:ext cx="340200" cy="45972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 flipH="1">
              <a:off x="1037520" y="1319760"/>
              <a:ext cx="333720" cy="21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2200">
              <a:off x="185040" y="1038600"/>
              <a:ext cx="850320" cy="67356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0" y="711360"/>
              <a:ext cx="320760" cy="289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185400" y="992160"/>
              <a:ext cx="10800" cy="306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1631880" y="3378240"/>
            <a:ext cx="744120" cy="677520"/>
            <a:chOff x="1631880" y="3378240"/>
            <a:chExt cx="744120" cy="677520"/>
          </a:xfrm>
        </p:grpSpPr>
        <p:sp>
          <p:nvSpPr>
            <p:cNvPr id="917" name=""/>
            <p:cNvSpPr/>
            <p:nvPr/>
          </p:nvSpPr>
          <p:spPr>
            <a:xfrm rot="20988600">
              <a:off x="1898640" y="3530880"/>
              <a:ext cx="437400" cy="489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31880" y="3378240"/>
              <a:ext cx="340200" cy="459360"/>
            </a:xfrm>
            <a:prstGeom prst="pentagon">
              <a:avLst/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 flipV="1">
            <a:off x="1371600" y="3847680"/>
            <a:ext cx="331920" cy="72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22200">
            <a:off x="518760" y="3565080"/>
            <a:ext cx="851040" cy="67320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3360" y="3236760"/>
            <a:ext cx="320760" cy="290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518760" y="351756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333000" y="169344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 flipV="1">
            <a:off x="518760" y="2957040"/>
            <a:ext cx="11160" cy="30492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573200" y="1038240"/>
            <a:ext cx="43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A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85760" y="1974960"/>
            <a:ext cx="2042640" cy="1002600"/>
            <a:chOff x="185760" y="1974960"/>
            <a:chExt cx="2042640" cy="1002600"/>
          </a:xfrm>
        </p:grpSpPr>
        <p:grpSp>
          <p:nvGrpSpPr>
            <p:cNvPr id="927" name=""/>
            <p:cNvGrpSpPr/>
            <p:nvPr/>
          </p:nvGrpSpPr>
          <p:grpSpPr>
            <a:xfrm>
              <a:off x="185760" y="1974960"/>
              <a:ext cx="2042640" cy="1002600"/>
              <a:chOff x="185760" y="1974960"/>
              <a:chExt cx="2042640" cy="100260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1484280" y="2115000"/>
                <a:ext cx="744120" cy="677520"/>
                <a:chOff x="1484280" y="2115000"/>
                <a:chExt cx="744120" cy="677520"/>
              </a:xfrm>
            </p:grpSpPr>
            <p:sp>
              <p:nvSpPr>
                <p:cNvPr id="929" name=""/>
                <p:cNvSpPr/>
                <p:nvPr/>
              </p:nvSpPr>
              <p:spPr>
                <a:xfrm rot="20988600">
                  <a:off x="1751040" y="2267640"/>
                  <a:ext cx="437400" cy="4896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484280" y="2115000"/>
                  <a:ext cx="340200" cy="4590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1" name=""/>
              <p:cNvSpPr/>
              <p:nvPr/>
            </p:nvSpPr>
            <p:spPr>
              <a:xfrm flipH="1">
                <a:off x="1223280" y="258228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22200">
                <a:off x="370800" y="2301840"/>
                <a:ext cx="850320" cy="6728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5760" y="1974960"/>
                <a:ext cx="320760" cy="289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 flipV="1">
                <a:off x="371160" y="2255040"/>
                <a:ext cx="10800" cy="305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1909800" y="3562200"/>
            <a:ext cx="398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G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939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940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947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948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715480" y="3081240"/>
            <a:ext cx="2012040" cy="1373760"/>
            <a:chOff x="2715480" y="3081240"/>
            <a:chExt cx="2012040" cy="1373760"/>
          </a:xfrm>
        </p:grpSpPr>
        <p:grpSp>
          <p:nvGrpSpPr>
            <p:cNvPr id="955" name=""/>
            <p:cNvGrpSpPr/>
            <p:nvPr/>
          </p:nvGrpSpPr>
          <p:grpSpPr>
            <a:xfrm>
              <a:off x="2715480" y="3413880"/>
              <a:ext cx="2012040" cy="1041120"/>
              <a:chOff x="2715480" y="3413880"/>
              <a:chExt cx="2012040" cy="1041120"/>
            </a:xfrm>
          </p:grpSpPr>
          <p:sp>
            <p:nvSpPr>
              <p:cNvPr id="956" name=""/>
              <p:cNvSpPr/>
              <p:nvPr/>
            </p:nvSpPr>
            <p:spPr>
              <a:xfrm rot="10280400">
                <a:off x="2748960" y="35938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246480" y="38203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0914000">
                <a:off x="3621240" y="3429360"/>
                <a:ext cx="950760" cy="6696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0891200">
                <a:off x="4365000" y="416232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559040" y="38678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V="1">
              <a:off x="4380840" y="3081240"/>
              <a:ext cx="8640" cy="35208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794680" y="3657960"/>
              <a:ext cx="396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2368440" y="3741840"/>
            <a:ext cx="424080" cy="11736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965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967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975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982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983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0" name=""/>
          <p:cNvGrpSpPr/>
          <p:nvPr/>
        </p:nvGrpSpPr>
        <p:grpSpPr>
          <a:xfrm>
            <a:off x="4452840" y="695160"/>
            <a:ext cx="2043000" cy="1003680"/>
            <a:chOff x="4452840" y="695160"/>
            <a:chExt cx="2043000" cy="1003680"/>
          </a:xfrm>
        </p:grpSpPr>
        <p:grpSp>
          <p:nvGrpSpPr>
            <p:cNvPr id="991" name=""/>
            <p:cNvGrpSpPr/>
            <p:nvPr/>
          </p:nvGrpSpPr>
          <p:grpSpPr>
            <a:xfrm>
              <a:off x="4452840" y="695160"/>
              <a:ext cx="2043000" cy="1003680"/>
              <a:chOff x="4452840" y="695160"/>
              <a:chExt cx="2043000" cy="100368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5751360" y="835560"/>
                <a:ext cx="744480" cy="678600"/>
                <a:chOff x="5751360" y="835560"/>
                <a:chExt cx="744480" cy="678600"/>
              </a:xfrm>
            </p:grpSpPr>
            <p:sp>
              <p:nvSpPr>
                <p:cNvPr id="993" name=""/>
                <p:cNvSpPr/>
                <p:nvPr/>
              </p:nvSpPr>
              <p:spPr>
                <a:xfrm rot="20988600">
                  <a:off x="6018120" y="988560"/>
                  <a:ext cx="437400" cy="4903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751360" y="835560"/>
                  <a:ext cx="340200" cy="45972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 flipH="1">
                <a:off x="5490360" y="130356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22200">
                <a:off x="4637880" y="1022400"/>
                <a:ext cx="850320" cy="673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452840" y="695160"/>
                <a:ext cx="32076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 flipV="1">
                <a:off x="4638240" y="97596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6026040" y="10220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6434280" y="1185840"/>
            <a:ext cx="3394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824360" y="2041560"/>
            <a:ext cx="2042640" cy="1002600"/>
            <a:chOff x="4824360" y="2041560"/>
            <a:chExt cx="2042640" cy="1002600"/>
          </a:xfrm>
        </p:grpSpPr>
        <p:grpSp>
          <p:nvGrpSpPr>
            <p:cNvPr id="1002" name=""/>
            <p:cNvGrpSpPr/>
            <p:nvPr/>
          </p:nvGrpSpPr>
          <p:grpSpPr>
            <a:xfrm>
              <a:off x="4824360" y="2041560"/>
              <a:ext cx="2042640" cy="1002600"/>
              <a:chOff x="4824360" y="2041560"/>
              <a:chExt cx="2042640" cy="100260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6122880" y="2181600"/>
                <a:ext cx="744120" cy="677520"/>
                <a:chOff x="6122880" y="2181600"/>
                <a:chExt cx="744120" cy="677520"/>
              </a:xfrm>
            </p:grpSpPr>
            <p:sp>
              <p:nvSpPr>
                <p:cNvPr id="1004" name=""/>
                <p:cNvSpPr/>
                <p:nvPr/>
              </p:nvSpPr>
              <p:spPr>
                <a:xfrm rot="20988600">
                  <a:off x="6389640" y="2334240"/>
                  <a:ext cx="437400" cy="4896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122880" y="2181600"/>
                  <a:ext cx="340200" cy="4590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 flipH="1">
                <a:off x="5861880" y="264888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22200">
                <a:off x="5009400" y="2368440"/>
                <a:ext cx="850320" cy="6728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824360" y="2041560"/>
                <a:ext cx="320760" cy="289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5009760" y="2321640"/>
                <a:ext cx="10800" cy="305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6379920" y="23828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 flipH="1" flipV="1">
            <a:off x="4792320" y="1676520"/>
            <a:ext cx="168120" cy="3888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807240" y="2488680"/>
            <a:ext cx="220680" cy="3348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12240" bIns="-1224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0" y="-20880"/>
            <a:ext cx="91440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32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96200" y="4384800"/>
            <a:ext cx="25066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65360" y="485928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Righ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75120" y="4863960"/>
            <a:ext cx="2309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New Left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DNA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031840" y="1217160"/>
            <a:ext cx="322560" cy="180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76680" y="2979720"/>
            <a:ext cx="54288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8080" bIns="-2808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201760" y="2455920"/>
            <a:ext cx="4240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0" y="711360"/>
            <a:ext cx="2043000" cy="1003680"/>
            <a:chOff x="0" y="711360"/>
            <a:chExt cx="2043000" cy="1003680"/>
          </a:xfrm>
        </p:grpSpPr>
        <p:grpSp>
          <p:nvGrpSpPr>
            <p:cNvPr id="1023" name=""/>
            <p:cNvGrpSpPr/>
            <p:nvPr/>
          </p:nvGrpSpPr>
          <p:grpSpPr>
            <a:xfrm>
              <a:off x="1298520" y="851760"/>
              <a:ext cx="744480" cy="678600"/>
              <a:chOff x="1298520" y="851760"/>
              <a:chExt cx="744480" cy="678600"/>
            </a:xfrm>
          </p:grpSpPr>
          <p:sp>
            <p:nvSpPr>
              <p:cNvPr id="1024" name=""/>
              <p:cNvSpPr/>
              <p:nvPr/>
            </p:nvSpPr>
            <p:spPr>
              <a:xfrm rot="20988600">
                <a:off x="1565280" y="1004760"/>
                <a:ext cx="437400" cy="4903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298520" y="851760"/>
                <a:ext cx="340200" cy="45972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 flipH="1">
              <a:off x="1037520" y="1319760"/>
              <a:ext cx="333720" cy="21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22200">
              <a:off x="185040" y="1038600"/>
              <a:ext cx="850320" cy="67356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0" y="711360"/>
              <a:ext cx="320760" cy="289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185400" y="992160"/>
              <a:ext cx="10800" cy="306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1631880" y="3378240"/>
            <a:ext cx="744120" cy="677520"/>
            <a:chOff x="1631880" y="3378240"/>
            <a:chExt cx="744120" cy="677520"/>
          </a:xfrm>
        </p:grpSpPr>
        <p:sp>
          <p:nvSpPr>
            <p:cNvPr id="1031" name=""/>
            <p:cNvSpPr/>
            <p:nvPr/>
          </p:nvSpPr>
          <p:spPr>
            <a:xfrm rot="20988600">
              <a:off x="1898640" y="3530880"/>
              <a:ext cx="437400" cy="489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631880" y="3378240"/>
              <a:ext cx="340200" cy="459360"/>
            </a:xfrm>
            <a:prstGeom prst="pentagon">
              <a:avLst/>
            </a:prstGeom>
            <a:solidFill>
              <a:srgbClr val="ff99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 flipH="1" flipV="1">
            <a:off x="1371600" y="3847680"/>
            <a:ext cx="331920" cy="72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22200">
            <a:off x="518760" y="3565080"/>
            <a:ext cx="851040" cy="67320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3360" y="3236760"/>
            <a:ext cx="320760" cy="290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518760" y="351756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333000" y="169344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flipV="1">
            <a:off x="518760" y="2957040"/>
            <a:ext cx="11160" cy="30492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73200" y="1038240"/>
            <a:ext cx="43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A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185760" y="1974960"/>
            <a:ext cx="2042640" cy="1002600"/>
            <a:chOff x="185760" y="1974960"/>
            <a:chExt cx="2042640" cy="1002600"/>
          </a:xfrm>
        </p:grpSpPr>
        <p:grpSp>
          <p:nvGrpSpPr>
            <p:cNvPr id="1041" name=""/>
            <p:cNvGrpSpPr/>
            <p:nvPr/>
          </p:nvGrpSpPr>
          <p:grpSpPr>
            <a:xfrm>
              <a:off x="185760" y="1974960"/>
              <a:ext cx="2042640" cy="1002600"/>
              <a:chOff x="185760" y="1974960"/>
              <a:chExt cx="2042640" cy="10026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1484280" y="2115000"/>
                <a:ext cx="744120" cy="677520"/>
                <a:chOff x="1484280" y="2115000"/>
                <a:chExt cx="744120" cy="677520"/>
              </a:xfrm>
            </p:grpSpPr>
            <p:sp>
              <p:nvSpPr>
                <p:cNvPr id="1043" name=""/>
                <p:cNvSpPr/>
                <p:nvPr/>
              </p:nvSpPr>
              <p:spPr>
                <a:xfrm rot="20988600">
                  <a:off x="1751040" y="2267640"/>
                  <a:ext cx="437400" cy="4896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484280" y="2115000"/>
                  <a:ext cx="340200" cy="4590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5" name=""/>
              <p:cNvSpPr/>
              <p:nvPr/>
            </p:nvSpPr>
            <p:spPr>
              <a:xfrm flipH="1">
                <a:off x="1223280" y="258228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2200">
                <a:off x="370800" y="2301840"/>
                <a:ext cx="850320" cy="6728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85760" y="1974960"/>
                <a:ext cx="320760" cy="289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371160" y="2255040"/>
                <a:ext cx="10800" cy="305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1741320" y="23162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1909800" y="3562200"/>
            <a:ext cx="398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2525"/>
                </a:solidFill>
                <a:latin typeface="Arial"/>
                <a:ea typeface="Arial"/>
              </a:rPr>
              <a:t>G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213080" y="1774800"/>
            <a:ext cx="7920" cy="2937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2296080" y="781200"/>
            <a:ext cx="2012400" cy="1040760"/>
            <a:chOff x="2296080" y="781200"/>
            <a:chExt cx="2012400" cy="1040760"/>
          </a:xfrm>
        </p:grpSpPr>
        <p:grpSp>
          <p:nvGrpSpPr>
            <p:cNvPr id="1053" name=""/>
            <p:cNvGrpSpPr/>
            <p:nvPr/>
          </p:nvGrpSpPr>
          <p:grpSpPr>
            <a:xfrm>
              <a:off x="2296080" y="781200"/>
              <a:ext cx="2012400" cy="1040760"/>
              <a:chOff x="2296080" y="781200"/>
              <a:chExt cx="2012400" cy="1040760"/>
            </a:xfrm>
          </p:grpSpPr>
          <p:sp>
            <p:nvSpPr>
              <p:cNvPr id="1054" name=""/>
              <p:cNvSpPr/>
              <p:nvPr/>
            </p:nvSpPr>
            <p:spPr>
              <a:xfrm rot="10280400">
                <a:off x="2329560" y="96120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827080" y="118728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0914000">
                <a:off x="3202200" y="796680"/>
                <a:ext cx="951120" cy="6688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0891200">
                <a:off x="3945960" y="152928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139640" y="1235520"/>
                <a:ext cx="3960" cy="3038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2407320" y="1018080"/>
              <a:ext cx="44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547000" y="2049120"/>
            <a:ext cx="2012400" cy="1041120"/>
            <a:chOff x="2547000" y="2049120"/>
            <a:chExt cx="2012400" cy="1041120"/>
          </a:xfrm>
        </p:grpSpPr>
        <p:grpSp>
          <p:nvGrpSpPr>
            <p:cNvPr id="1061" name=""/>
            <p:cNvGrpSpPr/>
            <p:nvPr/>
          </p:nvGrpSpPr>
          <p:grpSpPr>
            <a:xfrm>
              <a:off x="2547000" y="2049120"/>
              <a:ext cx="2012400" cy="1041120"/>
              <a:chOff x="2547000" y="2049120"/>
              <a:chExt cx="2012400" cy="1041120"/>
            </a:xfrm>
          </p:grpSpPr>
          <p:sp>
            <p:nvSpPr>
              <p:cNvPr id="1062" name=""/>
              <p:cNvSpPr/>
              <p:nvPr/>
            </p:nvSpPr>
            <p:spPr>
              <a:xfrm rot="10280400">
                <a:off x="2580480" y="22294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78000" y="24559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914000">
                <a:off x="3453120" y="2064600"/>
                <a:ext cx="951120" cy="6692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0891200">
                <a:off x="4196880" y="279756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390560" y="25034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2592360" y="2236680"/>
              <a:ext cx="401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2715480" y="3081240"/>
            <a:ext cx="2012040" cy="1373760"/>
            <a:chOff x="2715480" y="3081240"/>
            <a:chExt cx="2012040" cy="1373760"/>
          </a:xfrm>
        </p:grpSpPr>
        <p:grpSp>
          <p:nvGrpSpPr>
            <p:cNvPr id="1069" name=""/>
            <p:cNvGrpSpPr/>
            <p:nvPr/>
          </p:nvGrpSpPr>
          <p:grpSpPr>
            <a:xfrm>
              <a:off x="2715480" y="3413880"/>
              <a:ext cx="2012040" cy="1041120"/>
              <a:chOff x="2715480" y="3413880"/>
              <a:chExt cx="2012040" cy="1041120"/>
            </a:xfrm>
          </p:grpSpPr>
          <p:sp>
            <p:nvSpPr>
              <p:cNvPr id="1070" name=""/>
              <p:cNvSpPr/>
              <p:nvPr/>
            </p:nvSpPr>
            <p:spPr>
              <a:xfrm rot="10280400">
                <a:off x="2748960" y="3593880"/>
                <a:ext cx="489240" cy="487080"/>
              </a:xfrm>
              <a:prstGeom prst="hexagon">
                <a:avLst>
                  <a:gd name="adj" fmla="val 2511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246480" y="3820320"/>
                <a:ext cx="373320" cy="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0914000">
                <a:off x="3621240" y="3429360"/>
                <a:ext cx="950760" cy="66960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0891200">
                <a:off x="4365000" y="4162320"/>
                <a:ext cx="358560" cy="2876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559040" y="3867840"/>
                <a:ext cx="3960" cy="304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 flipV="1">
              <a:off x="4380840" y="3081240"/>
              <a:ext cx="8640" cy="35208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94680" y="3657960"/>
              <a:ext cx="396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2368440" y="3741840"/>
            <a:ext cx="424080" cy="11736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715800" y="765360"/>
            <a:ext cx="2431440" cy="3673800"/>
            <a:chOff x="6715800" y="765360"/>
            <a:chExt cx="2431440" cy="3673800"/>
          </a:xfrm>
        </p:grpSpPr>
        <p:grpSp>
          <p:nvGrpSpPr>
            <p:cNvPr id="1079" name=""/>
            <p:cNvGrpSpPr/>
            <p:nvPr/>
          </p:nvGrpSpPr>
          <p:grpSpPr>
            <a:xfrm>
              <a:off x="6715800" y="765360"/>
              <a:ext cx="2012400" cy="1040760"/>
              <a:chOff x="6715800" y="765360"/>
              <a:chExt cx="2012400" cy="104076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6715800" y="765360"/>
                <a:ext cx="2012400" cy="1040760"/>
                <a:chOff x="6715800" y="765360"/>
                <a:chExt cx="2012400" cy="1040760"/>
              </a:xfrm>
            </p:grpSpPr>
            <p:sp>
              <p:nvSpPr>
                <p:cNvPr id="1081" name=""/>
                <p:cNvSpPr/>
                <p:nvPr/>
              </p:nvSpPr>
              <p:spPr>
                <a:xfrm rot="10280400">
                  <a:off x="6749280" y="94536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246800" y="117144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0914000">
                  <a:off x="7621920" y="780840"/>
                  <a:ext cx="951120" cy="6688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0891200">
                  <a:off x="8365680" y="151344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8559360" y="1219680"/>
                  <a:ext cx="3960" cy="3038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>
                <a:off x="6827040" y="1002240"/>
                <a:ext cx="440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6966720" y="2033280"/>
              <a:ext cx="2012400" cy="1041120"/>
              <a:chOff x="6966720" y="2033280"/>
              <a:chExt cx="2012400" cy="104112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6966720" y="2033280"/>
                <a:ext cx="2012400" cy="1041120"/>
                <a:chOff x="6966720" y="2033280"/>
                <a:chExt cx="2012400" cy="1041120"/>
              </a:xfrm>
            </p:grpSpPr>
            <p:sp>
              <p:nvSpPr>
                <p:cNvPr id="1089" name=""/>
                <p:cNvSpPr/>
                <p:nvPr/>
              </p:nvSpPr>
              <p:spPr>
                <a:xfrm rot="10280400">
                  <a:off x="7000200" y="22136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497720" y="24400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10914000">
                  <a:off x="7872840" y="2048760"/>
                  <a:ext cx="951120" cy="6692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rot="10891200">
                  <a:off x="8616600" y="278172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810280" y="24876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4" name=""/>
              <p:cNvSpPr/>
              <p:nvPr/>
            </p:nvSpPr>
            <p:spPr>
              <a:xfrm>
                <a:off x="7012080" y="2220840"/>
                <a:ext cx="401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7135200" y="3065400"/>
              <a:ext cx="2012040" cy="1373760"/>
              <a:chOff x="7135200" y="3065400"/>
              <a:chExt cx="2012040" cy="137376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7135200" y="3398040"/>
                <a:ext cx="2012040" cy="1041120"/>
                <a:chOff x="7135200" y="3398040"/>
                <a:chExt cx="2012040" cy="1041120"/>
              </a:xfrm>
            </p:grpSpPr>
            <p:sp>
              <p:nvSpPr>
                <p:cNvPr id="1097" name=""/>
                <p:cNvSpPr/>
                <p:nvPr/>
              </p:nvSpPr>
              <p:spPr>
                <a:xfrm rot="10280400">
                  <a:off x="7168680" y="3578040"/>
                  <a:ext cx="489240" cy="487080"/>
                </a:xfrm>
                <a:prstGeom prst="hexagon">
                  <a:avLst>
                    <a:gd name="adj" fmla="val 25111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666200" y="3804480"/>
                  <a:ext cx="373320" cy="7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10914000">
                  <a:off x="8040960" y="3413520"/>
                  <a:ext cx="950760" cy="66960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0891200">
                  <a:off x="8784720" y="4146480"/>
                  <a:ext cx="358560" cy="2876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8978760" y="3852000"/>
                  <a:ext cx="3960" cy="3042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 flipV="1">
                <a:off x="8800560" y="3065400"/>
                <a:ext cx="8640" cy="352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214400" y="3642120"/>
                <a:ext cx="3967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25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4452840" y="695160"/>
            <a:ext cx="2043000" cy="1003680"/>
            <a:chOff x="4452840" y="695160"/>
            <a:chExt cx="2043000" cy="1003680"/>
          </a:xfrm>
        </p:grpSpPr>
        <p:grpSp>
          <p:nvGrpSpPr>
            <p:cNvPr id="1105" name=""/>
            <p:cNvGrpSpPr/>
            <p:nvPr/>
          </p:nvGrpSpPr>
          <p:grpSpPr>
            <a:xfrm>
              <a:off x="4452840" y="695160"/>
              <a:ext cx="2043000" cy="1003680"/>
              <a:chOff x="4452840" y="695160"/>
              <a:chExt cx="2043000" cy="100368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5751360" y="835560"/>
                <a:ext cx="744480" cy="678600"/>
                <a:chOff x="5751360" y="835560"/>
                <a:chExt cx="744480" cy="678600"/>
              </a:xfrm>
            </p:grpSpPr>
            <p:sp>
              <p:nvSpPr>
                <p:cNvPr id="1107" name=""/>
                <p:cNvSpPr/>
                <p:nvPr/>
              </p:nvSpPr>
              <p:spPr>
                <a:xfrm rot="20988600">
                  <a:off x="6018120" y="988560"/>
                  <a:ext cx="437400" cy="4903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751360" y="835560"/>
                  <a:ext cx="340200" cy="45972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9" name=""/>
              <p:cNvSpPr/>
              <p:nvPr/>
            </p:nvSpPr>
            <p:spPr>
              <a:xfrm flipH="1">
                <a:off x="5490360" y="130356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22200">
                <a:off x="4637880" y="1022400"/>
                <a:ext cx="850320" cy="673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452840" y="695160"/>
                <a:ext cx="320760" cy="289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 flipV="1">
                <a:off x="4638240" y="975960"/>
                <a:ext cx="10800" cy="306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6026040" y="1022040"/>
              <a:ext cx="439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6434280" y="1185840"/>
            <a:ext cx="339480" cy="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824360" y="2041560"/>
            <a:ext cx="2042640" cy="1002600"/>
            <a:chOff x="4824360" y="2041560"/>
            <a:chExt cx="2042640" cy="1002600"/>
          </a:xfrm>
        </p:grpSpPr>
        <p:grpSp>
          <p:nvGrpSpPr>
            <p:cNvPr id="1116" name=""/>
            <p:cNvGrpSpPr/>
            <p:nvPr/>
          </p:nvGrpSpPr>
          <p:grpSpPr>
            <a:xfrm>
              <a:off x="4824360" y="2041560"/>
              <a:ext cx="2042640" cy="1002600"/>
              <a:chOff x="4824360" y="2041560"/>
              <a:chExt cx="2042640" cy="1002600"/>
            </a:xfrm>
          </p:grpSpPr>
          <p:grpSp>
            <p:nvGrpSpPr>
              <p:cNvPr id="1117" name=""/>
              <p:cNvGrpSpPr/>
              <p:nvPr/>
            </p:nvGrpSpPr>
            <p:grpSpPr>
              <a:xfrm>
                <a:off x="6122880" y="2181600"/>
                <a:ext cx="744120" cy="677520"/>
                <a:chOff x="6122880" y="2181600"/>
                <a:chExt cx="744120" cy="677520"/>
              </a:xfrm>
            </p:grpSpPr>
            <p:sp>
              <p:nvSpPr>
                <p:cNvPr id="1118" name=""/>
                <p:cNvSpPr/>
                <p:nvPr/>
              </p:nvSpPr>
              <p:spPr>
                <a:xfrm rot="20988600">
                  <a:off x="6389640" y="2334240"/>
                  <a:ext cx="437400" cy="4896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122880" y="2181600"/>
                  <a:ext cx="340200" cy="4590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"/>
              <p:cNvSpPr/>
              <p:nvPr/>
            </p:nvSpPr>
            <p:spPr>
              <a:xfrm flipH="1">
                <a:off x="5861880" y="2648880"/>
                <a:ext cx="333720" cy="2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22200">
                <a:off x="5009400" y="2368440"/>
                <a:ext cx="850320" cy="6728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824360" y="2041560"/>
                <a:ext cx="320760" cy="289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flipV="1">
                <a:off x="5009760" y="2321640"/>
                <a:ext cx="10800" cy="305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6379920" y="2382840"/>
              <a:ext cx="389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 flipH="1" flipV="1">
            <a:off x="4792320" y="1676520"/>
            <a:ext cx="168120" cy="3888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6807240" y="2488680"/>
            <a:ext cx="220680" cy="3348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12240" bIns="-1224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0" y="-20880"/>
            <a:ext cx="91440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Base Pairing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4956120" y="3041280"/>
            <a:ext cx="2042640" cy="1284120"/>
            <a:chOff x="4956120" y="3041280"/>
            <a:chExt cx="2042640" cy="1284120"/>
          </a:xfrm>
        </p:grpSpPr>
        <p:grpSp>
          <p:nvGrpSpPr>
            <p:cNvPr id="1129" name=""/>
            <p:cNvGrpSpPr/>
            <p:nvPr/>
          </p:nvGrpSpPr>
          <p:grpSpPr>
            <a:xfrm>
              <a:off x="6254640" y="3462480"/>
              <a:ext cx="744120" cy="677520"/>
              <a:chOff x="6254640" y="3462480"/>
              <a:chExt cx="744120" cy="677520"/>
            </a:xfrm>
          </p:grpSpPr>
          <p:sp>
            <p:nvSpPr>
              <p:cNvPr id="1130" name=""/>
              <p:cNvSpPr/>
              <p:nvPr/>
            </p:nvSpPr>
            <p:spPr>
              <a:xfrm rot="20988600">
                <a:off x="6521400" y="3615120"/>
                <a:ext cx="437400" cy="4896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54640" y="3462480"/>
                <a:ext cx="340200" cy="45936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 rot="22200">
              <a:off x="5141520" y="3649320"/>
              <a:ext cx="851040" cy="67320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956120" y="3321000"/>
              <a:ext cx="320760" cy="290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5141520" y="3041280"/>
              <a:ext cx="11160" cy="3049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532560" y="3646440"/>
              <a:ext cx="398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2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136" name=""/>
          <p:cNvSpPr/>
          <p:nvPr/>
        </p:nvSpPr>
        <p:spPr>
          <a:xfrm flipH="1" flipV="1">
            <a:off x="5141520" y="3601800"/>
            <a:ext cx="11160" cy="3063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5978520" y="3898440"/>
            <a:ext cx="331920" cy="720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934320" y="3809520"/>
            <a:ext cx="220680" cy="33480"/>
          </a:xfrm>
          <a:prstGeom prst="line">
            <a:avLst/>
          </a:prstGeom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12240" bIns="-1224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2209680" y="1295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the DNA double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helix begins to “unzip”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362320" y="1522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133720" y="5257800"/>
            <a:ext cx="6400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the result is two identical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strands of DNA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057400" y="2895480"/>
            <a:ext cx="6858000" cy="2227680"/>
            <a:chOff x="2057400" y="2895480"/>
            <a:chExt cx="6858000" cy="2227680"/>
          </a:xfrm>
        </p:grpSpPr>
        <p:sp>
          <p:nvSpPr>
            <p:cNvPr id="1143" name=""/>
            <p:cNvSpPr/>
            <p:nvPr/>
          </p:nvSpPr>
          <p:spPr>
            <a:xfrm>
              <a:off x="2057400" y="2895480"/>
              <a:ext cx="6858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001"/>
                </a:spcBef>
                <a:buClr>
                  <a:srgbClr val="f8fafa"/>
                </a:buClr>
                <a:buFont typeface="Times New Roman"/>
                <a:buAutoNum type="alpha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DNA nucleotides are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95480" y="4419720"/>
              <a:ext cx="434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DNA strand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19520" y="3657600"/>
              <a:ext cx="487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Times New Roman"/>
                  <a:ea typeface="Times New Roman"/>
                </a:rPr>
                <a:t>added to each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"/>
          <p:cNvGrpSpPr/>
          <p:nvPr/>
        </p:nvGrpSpPr>
        <p:grpSpPr>
          <a:xfrm>
            <a:off x="2209680" y="2769480"/>
            <a:ext cx="2320920" cy="1768680"/>
            <a:chOff x="2209680" y="2769480"/>
            <a:chExt cx="2320920" cy="1768680"/>
          </a:xfrm>
        </p:grpSpPr>
        <p:grpSp>
          <p:nvGrpSpPr>
            <p:cNvPr id="1147" name=""/>
            <p:cNvGrpSpPr/>
            <p:nvPr/>
          </p:nvGrpSpPr>
          <p:grpSpPr>
            <a:xfrm>
              <a:off x="3222000" y="2769480"/>
              <a:ext cx="995760" cy="489240"/>
              <a:chOff x="3222000" y="2769480"/>
              <a:chExt cx="995760" cy="489240"/>
            </a:xfrm>
          </p:grpSpPr>
          <p:sp>
            <p:nvSpPr>
              <p:cNvPr id="1148" name=""/>
              <p:cNvSpPr/>
              <p:nvPr/>
            </p:nvSpPr>
            <p:spPr>
              <a:xfrm rot="9978000">
                <a:off x="3246480" y="2907360"/>
                <a:ext cx="235440" cy="234720"/>
              </a:xfrm>
              <a:prstGeom prst="hexagon">
                <a:avLst>
                  <a:gd name="adj" fmla="val 2507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3484800" y="2993760"/>
                <a:ext cx="178920" cy="122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0611600">
                <a:off x="3661200" y="2781720"/>
                <a:ext cx="457920" cy="322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0588800">
                <a:off x="4041000" y="3115080"/>
                <a:ext cx="172440" cy="138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116240" y="2972880"/>
                <a:ext cx="14040" cy="1458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53" name=""/>
            <p:cNvSpPr/>
            <p:nvPr/>
          </p:nvSpPr>
          <p:spPr>
            <a:xfrm rot="21297600">
              <a:off x="3198600" y="2890440"/>
              <a:ext cx="2109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T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3394800" y="3364920"/>
              <a:ext cx="996840" cy="489240"/>
              <a:chOff x="3394800" y="3364920"/>
              <a:chExt cx="996840" cy="489240"/>
            </a:xfrm>
          </p:grpSpPr>
          <p:sp>
            <p:nvSpPr>
              <p:cNvPr id="1155" name=""/>
              <p:cNvSpPr/>
              <p:nvPr/>
            </p:nvSpPr>
            <p:spPr>
              <a:xfrm rot="9978000">
                <a:off x="3419280" y="3502800"/>
                <a:ext cx="235440" cy="234720"/>
              </a:xfrm>
              <a:prstGeom prst="hexagon">
                <a:avLst>
                  <a:gd name="adj" fmla="val 2507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3657960" y="3589200"/>
                <a:ext cx="178920" cy="122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0611600">
                <a:off x="3834360" y="3377160"/>
                <a:ext cx="457920" cy="322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10588800">
                <a:off x="4214520" y="3710520"/>
                <a:ext cx="172800" cy="138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290120" y="3567960"/>
                <a:ext cx="14400" cy="146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 rot="21297600">
              <a:off x="3365280" y="3460680"/>
              <a:ext cx="261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3534840" y="4012560"/>
              <a:ext cx="995760" cy="489240"/>
              <a:chOff x="3534840" y="4012560"/>
              <a:chExt cx="995760" cy="489240"/>
            </a:xfrm>
          </p:grpSpPr>
          <p:sp>
            <p:nvSpPr>
              <p:cNvPr id="1162" name=""/>
              <p:cNvSpPr/>
              <p:nvPr/>
            </p:nvSpPr>
            <p:spPr>
              <a:xfrm rot="9978000">
                <a:off x="3559320" y="4150440"/>
                <a:ext cx="235440" cy="234720"/>
              </a:xfrm>
              <a:prstGeom prst="hexagon">
                <a:avLst>
                  <a:gd name="adj" fmla="val 2507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3797640" y="4236840"/>
                <a:ext cx="178920" cy="122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0611600">
                <a:off x="3974040" y="4024800"/>
                <a:ext cx="457920" cy="3225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0588800">
                <a:off x="4353840" y="4358160"/>
                <a:ext cx="172440" cy="138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429080" y="4215960"/>
                <a:ext cx="14040" cy="1458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 flipH="1" flipV="1">
              <a:off x="4315320" y="3846240"/>
              <a:ext cx="10440" cy="1699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21297600">
              <a:off x="3509640" y="4115880"/>
              <a:ext cx="1922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2209680" y="2790720"/>
              <a:ext cx="983160" cy="483120"/>
              <a:chOff x="2209680" y="2790720"/>
              <a:chExt cx="983160" cy="483120"/>
            </a:xfrm>
          </p:grpSpPr>
          <p:grpSp>
            <p:nvGrpSpPr>
              <p:cNvPr id="1170" name=""/>
              <p:cNvGrpSpPr/>
              <p:nvPr/>
            </p:nvGrpSpPr>
            <p:grpSpPr>
              <a:xfrm>
                <a:off x="2834280" y="2858040"/>
                <a:ext cx="358560" cy="326880"/>
                <a:chOff x="2834280" y="2858040"/>
                <a:chExt cx="358560" cy="326880"/>
              </a:xfrm>
            </p:grpSpPr>
            <p:sp>
              <p:nvSpPr>
                <p:cNvPr id="1171" name=""/>
                <p:cNvSpPr/>
                <p:nvPr/>
              </p:nvSpPr>
              <p:spPr>
                <a:xfrm rot="20988600">
                  <a:off x="2962800" y="2931840"/>
                  <a:ext cx="210600" cy="2361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834280" y="2858040"/>
                  <a:ext cx="163800" cy="2214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 flipH="1">
                <a:off x="2709000" y="3083760"/>
                <a:ext cx="160560" cy="7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2200">
                <a:off x="2298600" y="2948040"/>
                <a:ext cx="408960" cy="32436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209680" y="2790720"/>
                <a:ext cx="154080" cy="139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 flipV="1">
                <a:off x="2298600" y="2925360"/>
                <a:ext cx="5040" cy="1472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2914560" y="2896920"/>
              <a:ext cx="212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2389320" y="3438360"/>
              <a:ext cx="982080" cy="482040"/>
              <a:chOff x="2389320" y="3438360"/>
              <a:chExt cx="982080" cy="48204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3013560" y="3505680"/>
                <a:ext cx="357840" cy="325800"/>
                <a:chOff x="3013560" y="3505680"/>
                <a:chExt cx="357840" cy="325800"/>
              </a:xfrm>
            </p:grpSpPr>
            <p:sp>
              <p:nvSpPr>
                <p:cNvPr id="1180" name=""/>
                <p:cNvSpPr/>
                <p:nvPr/>
              </p:nvSpPr>
              <p:spPr>
                <a:xfrm rot="20988600">
                  <a:off x="3142080" y="3579120"/>
                  <a:ext cx="210240" cy="23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013560" y="3505680"/>
                  <a:ext cx="163440" cy="22104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 flipH="1">
                <a:off x="2888280" y="3730680"/>
                <a:ext cx="160560" cy="7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22200">
                <a:off x="2478240" y="3595320"/>
                <a:ext cx="408960" cy="3236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389320" y="3438360"/>
                <a:ext cx="154080" cy="138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2478240" y="3573000"/>
                <a:ext cx="5040" cy="1468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 flipH="1" flipV="1">
              <a:off x="2373120" y="3262320"/>
              <a:ext cx="81000" cy="1872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3089160" y="4097160"/>
              <a:ext cx="359280" cy="326520"/>
              <a:chOff x="3089160" y="4097160"/>
              <a:chExt cx="359280" cy="326520"/>
            </a:xfrm>
          </p:grpSpPr>
          <p:sp>
            <p:nvSpPr>
              <p:cNvPr id="1188" name=""/>
              <p:cNvSpPr/>
              <p:nvPr/>
            </p:nvSpPr>
            <p:spPr>
              <a:xfrm rot="20988600">
                <a:off x="3218040" y="4170600"/>
                <a:ext cx="210960" cy="23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089160" y="4097160"/>
                <a:ext cx="164160" cy="22104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 rot="22200">
              <a:off x="2541600" y="4211280"/>
              <a:ext cx="409680" cy="325440"/>
            </a:xfrm>
            <a:prstGeom prst="pentagon">
              <a:avLst/>
            </a:prstGeom>
            <a:solidFill>
              <a:srgbClr val="0000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52680" y="4054320"/>
              <a:ext cx="154080" cy="139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 flipV="1">
              <a:off x="2541600" y="3919320"/>
              <a:ext cx="6480" cy="1461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146400" y="4133520"/>
              <a:ext cx="1922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 flipV="1">
              <a:off x="2541240" y="4189320"/>
              <a:ext cx="4680" cy="1476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 flipV="1">
              <a:off x="2943000" y="4332240"/>
              <a:ext cx="160200" cy="39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355920" y="3654000"/>
              <a:ext cx="73080" cy="2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5200" bIns="-252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78080" y="3043080"/>
              <a:ext cx="76320" cy="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1320" bIns="-3132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416400" y="4295160"/>
              <a:ext cx="144360" cy="1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6640" bIns="-266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86280" y="3538440"/>
              <a:ext cx="276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d2525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4330800" y="2177640"/>
            <a:ext cx="1501200" cy="2182680"/>
            <a:chOff x="4330800" y="2177640"/>
            <a:chExt cx="1501200" cy="2182680"/>
          </a:xfrm>
        </p:grpSpPr>
        <p:sp>
          <p:nvSpPr>
            <p:cNvPr id="1201" name=""/>
            <p:cNvSpPr/>
            <p:nvPr/>
          </p:nvSpPr>
          <p:spPr>
            <a:xfrm rot="19828800">
              <a:off x="4376880" y="2431800"/>
              <a:ext cx="1162080" cy="493560"/>
            </a:xfrm>
            <a:prstGeom prst="rightArrow">
              <a:avLst>
                <a:gd name="adj1" fmla="val 50000"/>
                <a:gd name="adj2" fmla="val 58862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663300"/>
                </a:gs>
              </a:gsLst>
              <a:lin ang="12570000"/>
            </a:gradFill>
            <a:ln w="9360">
              <a:solidFill>
                <a:srgbClr val="4e2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342000">
              <a:off x="4647960" y="3809520"/>
              <a:ext cx="1162080" cy="493920"/>
            </a:xfrm>
            <a:prstGeom prst="rightArrow">
              <a:avLst>
                <a:gd name="adj1" fmla="val 50000"/>
                <a:gd name="adj2" fmla="val 5881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663300"/>
                </a:gs>
              </a:gsLst>
              <a:lin ang="10458000"/>
            </a:gradFill>
            <a:ln w="9360">
              <a:solidFill>
                <a:srgbClr val="4e2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477040" y="893160"/>
            <a:ext cx="2863080" cy="4740480"/>
            <a:chOff x="5477040" y="893160"/>
            <a:chExt cx="2863080" cy="4740480"/>
          </a:xfrm>
        </p:grpSpPr>
        <p:grpSp>
          <p:nvGrpSpPr>
            <p:cNvPr id="1204" name=""/>
            <p:cNvGrpSpPr/>
            <p:nvPr/>
          </p:nvGrpSpPr>
          <p:grpSpPr>
            <a:xfrm>
              <a:off x="6019920" y="3864960"/>
              <a:ext cx="2320200" cy="1768680"/>
              <a:chOff x="6019920" y="3864960"/>
              <a:chExt cx="2320200" cy="1768680"/>
            </a:xfrm>
          </p:grpSpPr>
          <p:grpSp>
            <p:nvGrpSpPr>
              <p:cNvPr id="1205" name=""/>
              <p:cNvGrpSpPr/>
              <p:nvPr/>
            </p:nvGrpSpPr>
            <p:grpSpPr>
              <a:xfrm>
                <a:off x="7031880" y="3864960"/>
                <a:ext cx="995400" cy="489240"/>
                <a:chOff x="7031880" y="3864960"/>
                <a:chExt cx="995400" cy="489240"/>
              </a:xfrm>
            </p:grpSpPr>
            <p:sp>
              <p:nvSpPr>
                <p:cNvPr id="1206" name=""/>
                <p:cNvSpPr/>
                <p:nvPr/>
              </p:nvSpPr>
              <p:spPr>
                <a:xfrm rot="9978000">
                  <a:off x="7056360" y="400284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V="1">
                  <a:off x="7294680" y="408924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rot="10611600">
                  <a:off x="7470720" y="3877200"/>
                  <a:ext cx="45756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rot="10588800">
                  <a:off x="7850520" y="421056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7925760" y="406836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1" name=""/>
              <p:cNvSpPr/>
              <p:nvPr/>
            </p:nvSpPr>
            <p:spPr>
              <a:xfrm rot="21297600">
                <a:off x="7008480" y="3985920"/>
                <a:ext cx="210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7204680" y="4460400"/>
                <a:ext cx="995760" cy="489240"/>
                <a:chOff x="7204680" y="4460400"/>
                <a:chExt cx="995760" cy="489240"/>
              </a:xfrm>
            </p:grpSpPr>
            <p:sp>
              <p:nvSpPr>
                <p:cNvPr id="1213" name=""/>
                <p:cNvSpPr/>
                <p:nvPr/>
              </p:nvSpPr>
              <p:spPr>
                <a:xfrm rot="9978000">
                  <a:off x="7229160" y="459828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V="1">
                  <a:off x="7467480" y="468468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rot="10611600">
                  <a:off x="7643880" y="4472640"/>
                  <a:ext cx="45792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rot="10588800">
                  <a:off x="8023680" y="480600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8098920" y="466380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8" name=""/>
              <p:cNvSpPr/>
              <p:nvPr/>
            </p:nvSpPr>
            <p:spPr>
              <a:xfrm rot="21297600">
                <a:off x="7175160" y="4556160"/>
                <a:ext cx="2613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19" name=""/>
              <p:cNvGrpSpPr/>
              <p:nvPr/>
            </p:nvGrpSpPr>
            <p:grpSpPr>
              <a:xfrm>
                <a:off x="7344720" y="5108040"/>
                <a:ext cx="995400" cy="489240"/>
                <a:chOff x="7344720" y="5108040"/>
                <a:chExt cx="995400" cy="489240"/>
              </a:xfrm>
            </p:grpSpPr>
            <p:sp>
              <p:nvSpPr>
                <p:cNvPr id="1220" name=""/>
                <p:cNvSpPr/>
                <p:nvPr/>
              </p:nvSpPr>
              <p:spPr>
                <a:xfrm rot="9978000">
                  <a:off x="7369200" y="524592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7607520" y="533232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rot="10611600">
                  <a:off x="7783560" y="5120280"/>
                  <a:ext cx="45756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rot="10588800">
                  <a:off x="8163360" y="545364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238600" y="531144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H="1" flipV="1">
                <a:off x="8124840" y="4941720"/>
                <a:ext cx="10800" cy="1699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21297600">
                <a:off x="7319520" y="5211360"/>
                <a:ext cx="1918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6019920" y="3886200"/>
                <a:ext cx="982440" cy="483120"/>
                <a:chOff x="6019920" y="3886200"/>
                <a:chExt cx="982440" cy="48312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6644160" y="3953520"/>
                  <a:ext cx="358200" cy="326880"/>
                  <a:chOff x="6644160" y="3953520"/>
                  <a:chExt cx="358200" cy="32688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 rot="20988600">
                    <a:off x="6772680" y="4027320"/>
                    <a:ext cx="210240" cy="2361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6644160" y="3953520"/>
                    <a:ext cx="163440" cy="22140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1" name=""/>
                <p:cNvSpPr/>
                <p:nvPr/>
              </p:nvSpPr>
              <p:spPr>
                <a:xfrm flipH="1">
                  <a:off x="6518880" y="4179240"/>
                  <a:ext cx="160560" cy="72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22200">
                  <a:off x="6108840" y="4043520"/>
                  <a:ext cx="408960" cy="3243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019920" y="3886200"/>
                  <a:ext cx="154080" cy="139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 flipV="1">
                  <a:off x="6108840" y="4020840"/>
                  <a:ext cx="5040" cy="147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5" name=""/>
              <p:cNvSpPr/>
              <p:nvPr/>
            </p:nvSpPr>
            <p:spPr>
              <a:xfrm>
                <a:off x="6724440" y="3992400"/>
                <a:ext cx="2124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6199200" y="4533840"/>
                <a:ext cx="982080" cy="482040"/>
                <a:chOff x="6199200" y="4533840"/>
                <a:chExt cx="982080" cy="482040"/>
              </a:xfrm>
            </p:grpSpPr>
            <p:grpSp>
              <p:nvGrpSpPr>
                <p:cNvPr id="1237" name=""/>
                <p:cNvGrpSpPr/>
                <p:nvPr/>
              </p:nvGrpSpPr>
              <p:grpSpPr>
                <a:xfrm>
                  <a:off x="6823440" y="4601160"/>
                  <a:ext cx="357840" cy="325800"/>
                  <a:chOff x="6823440" y="4601160"/>
                  <a:chExt cx="357840" cy="32580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 rot="20988600">
                    <a:off x="6951960" y="4674600"/>
                    <a:ext cx="210240" cy="23544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6823440" y="4601160"/>
                    <a:ext cx="163440" cy="22104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0" name=""/>
                <p:cNvSpPr/>
                <p:nvPr/>
              </p:nvSpPr>
              <p:spPr>
                <a:xfrm flipH="1">
                  <a:off x="6697800" y="4826160"/>
                  <a:ext cx="160200" cy="72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rot="22200">
                  <a:off x="6288120" y="4690800"/>
                  <a:ext cx="408600" cy="323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199200" y="4533840"/>
                  <a:ext cx="154080" cy="1389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 flipV="1">
                  <a:off x="6288120" y="4668480"/>
                  <a:ext cx="5040" cy="146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4" name=""/>
              <p:cNvSpPr/>
              <p:nvPr/>
            </p:nvSpPr>
            <p:spPr>
              <a:xfrm flipH="1" flipV="1">
                <a:off x="6183360" y="4357800"/>
                <a:ext cx="80640" cy="18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45" name=""/>
              <p:cNvGrpSpPr/>
              <p:nvPr/>
            </p:nvGrpSpPr>
            <p:grpSpPr>
              <a:xfrm>
                <a:off x="6899040" y="5192640"/>
                <a:ext cx="358560" cy="326520"/>
                <a:chOff x="6899040" y="5192640"/>
                <a:chExt cx="358560" cy="326520"/>
              </a:xfrm>
            </p:grpSpPr>
            <p:sp>
              <p:nvSpPr>
                <p:cNvPr id="1246" name=""/>
                <p:cNvSpPr/>
                <p:nvPr/>
              </p:nvSpPr>
              <p:spPr>
                <a:xfrm rot="20988600">
                  <a:off x="7027560" y="5266440"/>
                  <a:ext cx="210600" cy="23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899040" y="5192640"/>
                  <a:ext cx="163800" cy="22104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"/>
              <p:cNvSpPr/>
              <p:nvPr/>
            </p:nvSpPr>
            <p:spPr>
              <a:xfrm rot="22200">
                <a:off x="6351480" y="5306760"/>
                <a:ext cx="409320" cy="3254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262560" y="5149800"/>
                <a:ext cx="153720" cy="139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 flipV="1">
                <a:off x="6351120" y="5014800"/>
                <a:ext cx="6120" cy="146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956280" y="5229000"/>
                <a:ext cx="1918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 flipV="1">
                <a:off x="6351480" y="5284800"/>
                <a:ext cx="4320" cy="1476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 flipV="1">
                <a:off x="6753240" y="5427720"/>
                <a:ext cx="159840" cy="39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7165800" y="4749480"/>
                <a:ext cx="72720" cy="2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25200" bIns="-252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987960" y="4138560"/>
                <a:ext cx="75960" cy="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1320" bIns="-313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7226280" y="5390640"/>
                <a:ext cx="144000" cy="1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26640" bIns="-26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896160" y="4633920"/>
                <a:ext cx="2757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5477040" y="893160"/>
              <a:ext cx="2320200" cy="1768680"/>
              <a:chOff x="5477040" y="893160"/>
              <a:chExt cx="2320200" cy="1768680"/>
            </a:xfrm>
          </p:grpSpPr>
          <p:grpSp>
            <p:nvGrpSpPr>
              <p:cNvPr id="1259" name=""/>
              <p:cNvGrpSpPr/>
              <p:nvPr/>
            </p:nvGrpSpPr>
            <p:grpSpPr>
              <a:xfrm>
                <a:off x="6489000" y="893160"/>
                <a:ext cx="995400" cy="489240"/>
                <a:chOff x="6489000" y="893160"/>
                <a:chExt cx="995400" cy="489240"/>
              </a:xfrm>
            </p:grpSpPr>
            <p:sp>
              <p:nvSpPr>
                <p:cNvPr id="1260" name=""/>
                <p:cNvSpPr/>
                <p:nvPr/>
              </p:nvSpPr>
              <p:spPr>
                <a:xfrm rot="9978000">
                  <a:off x="6513480" y="103104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V="1">
                  <a:off x="6751800" y="111744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rot="10611600">
                  <a:off x="6927840" y="905400"/>
                  <a:ext cx="45756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rot="10588800">
                  <a:off x="7307640" y="123876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7382880" y="109656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 rot="21297600">
                <a:off x="6465600" y="1014120"/>
                <a:ext cx="2106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T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6661800" y="1488600"/>
                <a:ext cx="995760" cy="489240"/>
                <a:chOff x="6661800" y="1488600"/>
                <a:chExt cx="995760" cy="489240"/>
              </a:xfrm>
            </p:grpSpPr>
            <p:sp>
              <p:nvSpPr>
                <p:cNvPr id="1267" name=""/>
                <p:cNvSpPr/>
                <p:nvPr/>
              </p:nvSpPr>
              <p:spPr>
                <a:xfrm rot="9978000">
                  <a:off x="6686280" y="162648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V="1">
                  <a:off x="6924600" y="171288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rot="10611600">
                  <a:off x="7101000" y="1500840"/>
                  <a:ext cx="45792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rot="10588800">
                  <a:off x="7480800" y="183420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7556040" y="169200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2" name=""/>
              <p:cNvSpPr/>
              <p:nvPr/>
            </p:nvSpPr>
            <p:spPr>
              <a:xfrm rot="21297600">
                <a:off x="6632280" y="1584360"/>
                <a:ext cx="2613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73" name=""/>
              <p:cNvGrpSpPr/>
              <p:nvPr/>
            </p:nvGrpSpPr>
            <p:grpSpPr>
              <a:xfrm>
                <a:off x="6801840" y="2136240"/>
                <a:ext cx="995400" cy="489240"/>
                <a:chOff x="6801840" y="2136240"/>
                <a:chExt cx="995400" cy="489240"/>
              </a:xfrm>
            </p:grpSpPr>
            <p:sp>
              <p:nvSpPr>
                <p:cNvPr id="1274" name=""/>
                <p:cNvSpPr/>
                <p:nvPr/>
              </p:nvSpPr>
              <p:spPr>
                <a:xfrm rot="9978000">
                  <a:off x="6826320" y="2274120"/>
                  <a:ext cx="235440" cy="234720"/>
                </a:xfrm>
                <a:prstGeom prst="hexagon">
                  <a:avLst>
                    <a:gd name="adj" fmla="val 25077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V="1">
                  <a:off x="7064640" y="2360520"/>
                  <a:ext cx="178920" cy="12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rot="10611600">
                  <a:off x="7240680" y="2148480"/>
                  <a:ext cx="457560" cy="322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rot="10588800">
                  <a:off x="7620480" y="2481840"/>
                  <a:ext cx="172440" cy="1386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7695720" y="2339640"/>
                  <a:ext cx="14040" cy="14580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 flipH="1" flipV="1">
                <a:off x="7581960" y="1969920"/>
                <a:ext cx="10800" cy="1699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1297600">
                <a:off x="6776640" y="2239560"/>
                <a:ext cx="1918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C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5477040" y="914400"/>
                <a:ext cx="982440" cy="483120"/>
                <a:chOff x="5477040" y="914400"/>
                <a:chExt cx="982440" cy="483120"/>
              </a:xfrm>
            </p:grpSpPr>
            <p:grpSp>
              <p:nvGrpSpPr>
                <p:cNvPr id="1282" name=""/>
                <p:cNvGrpSpPr/>
                <p:nvPr/>
              </p:nvGrpSpPr>
              <p:grpSpPr>
                <a:xfrm>
                  <a:off x="6101280" y="981720"/>
                  <a:ext cx="358200" cy="326880"/>
                  <a:chOff x="6101280" y="981720"/>
                  <a:chExt cx="358200" cy="32688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 rot="20988600">
                    <a:off x="6229800" y="1055520"/>
                    <a:ext cx="210240" cy="2361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6101280" y="981720"/>
                    <a:ext cx="163440" cy="22140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5" name=""/>
                <p:cNvSpPr/>
                <p:nvPr/>
              </p:nvSpPr>
              <p:spPr>
                <a:xfrm flipH="1">
                  <a:off x="5976000" y="1207440"/>
                  <a:ext cx="160560" cy="72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rot="22200">
                  <a:off x="5565960" y="1071720"/>
                  <a:ext cx="408960" cy="3243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77040" y="914400"/>
                  <a:ext cx="154080" cy="139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 flipV="1">
                  <a:off x="5565960" y="1049040"/>
                  <a:ext cx="5040" cy="1472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9" name=""/>
              <p:cNvSpPr/>
              <p:nvPr/>
            </p:nvSpPr>
            <p:spPr>
              <a:xfrm>
                <a:off x="6181560" y="1020600"/>
                <a:ext cx="21240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5656320" y="1562040"/>
                <a:ext cx="982080" cy="482040"/>
                <a:chOff x="5656320" y="1562040"/>
                <a:chExt cx="982080" cy="482040"/>
              </a:xfrm>
            </p:grpSpPr>
            <p:grpSp>
              <p:nvGrpSpPr>
                <p:cNvPr id="1291" name=""/>
                <p:cNvGrpSpPr/>
                <p:nvPr/>
              </p:nvGrpSpPr>
              <p:grpSpPr>
                <a:xfrm>
                  <a:off x="6280560" y="1629360"/>
                  <a:ext cx="357840" cy="325800"/>
                  <a:chOff x="6280560" y="1629360"/>
                  <a:chExt cx="357840" cy="325800"/>
                </a:xfrm>
              </p:grpSpPr>
              <p:sp>
                <p:nvSpPr>
                  <p:cNvPr id="1292" name=""/>
                  <p:cNvSpPr/>
                  <p:nvPr/>
                </p:nvSpPr>
                <p:spPr>
                  <a:xfrm rot="20988600">
                    <a:off x="6409080" y="1702800"/>
                    <a:ext cx="210240" cy="23544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6280560" y="1629360"/>
                    <a:ext cx="163440" cy="22104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4" name=""/>
                <p:cNvSpPr/>
                <p:nvPr/>
              </p:nvSpPr>
              <p:spPr>
                <a:xfrm flipH="1">
                  <a:off x="6154920" y="1854360"/>
                  <a:ext cx="160200" cy="72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rot="22200">
                  <a:off x="5745240" y="1719000"/>
                  <a:ext cx="408600" cy="323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656320" y="1562040"/>
                  <a:ext cx="154080" cy="1389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 flipV="1">
                  <a:off x="5745240" y="1696680"/>
                  <a:ext cx="5040" cy="146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"/>
              <p:cNvSpPr/>
              <p:nvPr/>
            </p:nvSpPr>
            <p:spPr>
              <a:xfrm flipH="1" flipV="1">
                <a:off x="5640480" y="1386000"/>
                <a:ext cx="80640" cy="1872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299" name=""/>
              <p:cNvGrpSpPr/>
              <p:nvPr/>
            </p:nvGrpSpPr>
            <p:grpSpPr>
              <a:xfrm>
                <a:off x="6356160" y="2220840"/>
                <a:ext cx="358560" cy="326520"/>
                <a:chOff x="6356160" y="2220840"/>
                <a:chExt cx="358560" cy="326520"/>
              </a:xfrm>
            </p:grpSpPr>
            <p:sp>
              <p:nvSpPr>
                <p:cNvPr id="1300" name=""/>
                <p:cNvSpPr/>
                <p:nvPr/>
              </p:nvSpPr>
              <p:spPr>
                <a:xfrm rot="20988600">
                  <a:off x="6484680" y="2294640"/>
                  <a:ext cx="210600" cy="23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356160" y="2220840"/>
                  <a:ext cx="163800" cy="22104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2" name=""/>
              <p:cNvSpPr/>
              <p:nvPr/>
            </p:nvSpPr>
            <p:spPr>
              <a:xfrm rot="22200">
                <a:off x="5808600" y="2334960"/>
                <a:ext cx="409320" cy="32544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719680" y="2178000"/>
                <a:ext cx="153720" cy="139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 flipV="1">
                <a:off x="5808240" y="2043000"/>
                <a:ext cx="6120" cy="1461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13400" y="2257200"/>
                <a:ext cx="1918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 flipV="1">
                <a:off x="5808600" y="2313000"/>
                <a:ext cx="4320" cy="1476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 flipV="1">
                <a:off x="6210360" y="2455920"/>
                <a:ext cx="159840" cy="39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6622920" y="1777680"/>
                <a:ext cx="72720" cy="2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25200" bIns="-252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45080" y="1166760"/>
                <a:ext cx="75960" cy="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1320" bIns="-313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683400" y="2418840"/>
                <a:ext cx="144000" cy="1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26640" bIns="-2664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353280" y="1662120"/>
                <a:ext cx="2757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16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0" y="1905120"/>
            <a:ext cx="624852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the process of making an          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exact copy of DNA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6094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DNA Replication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657600"/>
            <a:ext cx="655308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occurs before a cell can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divide (so each cell has the correct amount of DNA)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ReplicationColor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67057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62320" y="1676520"/>
            <a:ext cx="62481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f8faf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the DNA double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  <a:ea typeface="Times New Roman"/>
              </a:rPr>
              <a:t>helix begins to “unzip”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66720" y="1097280"/>
            <a:ext cx="6042960" cy="4904280"/>
            <a:chOff x="1566720" y="1097280"/>
            <a:chExt cx="6042960" cy="4904280"/>
          </a:xfrm>
        </p:grpSpPr>
        <p:grpSp>
          <p:nvGrpSpPr>
            <p:cNvPr id="112" name=""/>
            <p:cNvGrpSpPr/>
            <p:nvPr/>
          </p:nvGrpSpPr>
          <p:grpSpPr>
            <a:xfrm>
              <a:off x="1566720" y="1204560"/>
              <a:ext cx="3024720" cy="4664160"/>
              <a:chOff x="1566720" y="1204560"/>
              <a:chExt cx="3024720" cy="4664160"/>
            </a:xfrm>
          </p:grpSpPr>
          <p:sp>
            <p:nvSpPr>
              <p:cNvPr id="113" name=""/>
              <p:cNvSpPr/>
              <p:nvPr/>
            </p:nvSpPr>
            <p:spPr>
              <a:xfrm flipH="1" flipV="1">
                <a:off x="1990800" y="25034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2227320" y="4171320"/>
                <a:ext cx="14400" cy="40500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1566720" y="1204560"/>
                <a:ext cx="2624400" cy="1325520"/>
                <a:chOff x="1566720" y="1204560"/>
                <a:chExt cx="2624400" cy="13255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1566720" y="1204560"/>
                  <a:ext cx="2600280" cy="1325520"/>
                  <a:chOff x="1566720" y="1204560"/>
                  <a:chExt cx="2600280" cy="132552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218040" y="1389960"/>
                    <a:ext cx="948960" cy="893880"/>
                    <a:chOff x="3218040" y="1389960"/>
                    <a:chExt cx="948960" cy="89388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 rot="20988600">
                      <a:off x="3557520" y="1592280"/>
                      <a:ext cx="556200" cy="64728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218040" y="1389960"/>
                      <a:ext cx="432720" cy="606960"/>
                    </a:xfrm>
                    <a:prstGeom prst="pentagon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" name=""/>
                  <p:cNvSpPr/>
                  <p:nvPr/>
                </p:nvSpPr>
                <p:spPr>
                  <a:xfrm flipH="1">
                    <a:off x="2886480" y="2007720"/>
                    <a:ext cx="424440" cy="288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22200">
                    <a:off x="1802160" y="1636920"/>
                    <a:ext cx="1081440" cy="88956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566720" y="1204560"/>
                    <a:ext cx="407880" cy="38232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>
                    <a:off x="1802520" y="1575000"/>
                    <a:ext cx="13680" cy="40428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3632040" y="1660320"/>
                  <a:ext cx="55908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A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803240" y="2873160"/>
                <a:ext cx="2599560" cy="1326960"/>
                <a:chOff x="1803240" y="2873160"/>
                <a:chExt cx="2599560" cy="132696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1803240" y="2873160"/>
                  <a:ext cx="2599560" cy="1326960"/>
                  <a:chOff x="1803240" y="2873160"/>
                  <a:chExt cx="2599560" cy="132696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3453840" y="3058560"/>
                    <a:ext cx="948960" cy="895320"/>
                    <a:chOff x="3453840" y="3058560"/>
                    <a:chExt cx="948960" cy="89532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 rot="20988600">
                      <a:off x="3793680" y="3261240"/>
                      <a:ext cx="556200" cy="64836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3453840" y="3058560"/>
                      <a:ext cx="432360" cy="607680"/>
                    </a:xfrm>
                    <a:prstGeom prst="pentagon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 flipH="1">
                    <a:off x="3122280" y="3677400"/>
                    <a:ext cx="424440" cy="288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22200">
                    <a:off x="2038320" y="3305880"/>
                    <a:ext cx="1080720" cy="89064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803240" y="2873160"/>
                    <a:ext cx="407520" cy="38268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flipV="1">
                    <a:off x="2038680" y="3244320"/>
                    <a:ext cx="13680" cy="40464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" name=""/>
                <p:cNvSpPr/>
                <p:nvPr/>
              </p:nvSpPr>
              <p:spPr>
                <a:xfrm>
                  <a:off x="3801960" y="3371760"/>
                  <a:ext cx="4921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G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990800" y="4543200"/>
                <a:ext cx="2600640" cy="1325520"/>
                <a:chOff x="1990800" y="4543200"/>
                <a:chExt cx="2600640" cy="132552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3641760" y="4728960"/>
                  <a:ext cx="949680" cy="893520"/>
                  <a:chOff x="3641760" y="4728960"/>
                  <a:chExt cx="949680" cy="8935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0988600">
                    <a:off x="3981600" y="4931280"/>
                    <a:ext cx="556560" cy="6469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641760" y="4728960"/>
                    <a:ext cx="432720" cy="60660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" name=""/>
                <p:cNvSpPr/>
                <p:nvPr/>
              </p:nvSpPr>
              <p:spPr>
                <a:xfrm flipH="1" flipV="1">
                  <a:off x="3309840" y="5347800"/>
                  <a:ext cx="424080" cy="100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22200">
                  <a:off x="2226960" y="4974840"/>
                  <a:ext cx="1081080" cy="89028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90800" y="4543200"/>
                  <a:ext cx="40788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2227320" y="4913280"/>
                  <a:ext cx="1440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38480" y="499572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G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4701600" y="1097280"/>
              <a:ext cx="2908080" cy="4904280"/>
              <a:chOff x="4701600" y="1097280"/>
              <a:chExt cx="2908080" cy="490428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7169040" y="4186080"/>
                <a:ext cx="11160" cy="46512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953040" y="2442960"/>
                <a:ext cx="11160" cy="38736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701600" y="1097280"/>
                <a:ext cx="2908080" cy="4904280"/>
                <a:chOff x="4701600" y="1097280"/>
                <a:chExt cx="2908080" cy="490428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4701600" y="1097280"/>
                  <a:ext cx="2560680" cy="1375200"/>
                  <a:chOff x="4701600" y="1097280"/>
                  <a:chExt cx="2560680" cy="137520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4701600" y="1097280"/>
                    <a:ext cx="2560680" cy="1375200"/>
                    <a:chOff x="4701600" y="1097280"/>
                    <a:chExt cx="2560680" cy="137520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 rot="10280400">
                      <a:off x="4746600" y="1334880"/>
                      <a:ext cx="622080" cy="64368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5378400" y="1633680"/>
                      <a:ext cx="474840" cy="93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10914000">
                      <a:off x="5855400" y="1116720"/>
                      <a:ext cx="1209600" cy="884520"/>
                    </a:xfrm>
                    <a:prstGeom prst="pentagon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rot="10891200">
                      <a:off x="6801120" y="2086200"/>
                      <a:ext cx="456120" cy="38016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048800" y="1697400"/>
                      <a:ext cx="4320" cy="4017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 rot="21035400">
                    <a:off x="4844520" y="1409040"/>
                    <a:ext cx="558720" cy="50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8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000" spc="-1" strike="noStrike">
                        <a:solidFill>
                          <a:srgbClr val="2d2525"/>
                        </a:solidFill>
                        <a:latin typeface="Arial"/>
                        <a:ea typeface="Arial"/>
                      </a:rPr>
                      <a:t>T</a:t>
                    </a:r>
                    <a:endParaRPr b="0" lang="en-US" sz="30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4833360" y="2806920"/>
                  <a:ext cx="2560680" cy="1375200"/>
                  <a:chOff x="4833360" y="2806920"/>
                  <a:chExt cx="2560680" cy="1375200"/>
                </a:xfrm>
              </p:grpSpPr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4833360" y="2806920"/>
                    <a:ext cx="2560680" cy="1375200"/>
                    <a:chOff x="4833360" y="2806920"/>
                    <a:chExt cx="2560680" cy="137520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 rot="10280400">
                      <a:off x="4878360" y="3044520"/>
                      <a:ext cx="622080" cy="64368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5510160" y="3343320"/>
                      <a:ext cx="474840" cy="93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rot="10914000">
                      <a:off x="5987160" y="2826360"/>
                      <a:ext cx="1209600" cy="884520"/>
                    </a:xfrm>
                    <a:prstGeom prst="pentagon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10891200">
                      <a:off x="6932880" y="3795840"/>
                      <a:ext cx="456120" cy="38016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180560" y="3407040"/>
                      <a:ext cx="4320" cy="4017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 rot="21035400">
                    <a:off x="4955760" y="3120840"/>
                    <a:ext cx="507960" cy="50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8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000" spc="-1" strike="noStrike">
                        <a:solidFill>
                          <a:srgbClr val="2d2525"/>
                        </a:solidFill>
                        <a:latin typeface="Arial"/>
                        <a:ea typeface="Arial"/>
                      </a:rPr>
                      <a:t>C</a:t>
                    </a:r>
                    <a:endParaRPr b="0" lang="en-US" sz="30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5049000" y="4626360"/>
                  <a:ext cx="2560680" cy="1375200"/>
                  <a:chOff x="5049000" y="4626360"/>
                  <a:chExt cx="2560680" cy="1375200"/>
                </a:xfrm>
              </p:grpSpPr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5049000" y="4626360"/>
                    <a:ext cx="2560680" cy="1375200"/>
                    <a:chOff x="5049000" y="4626360"/>
                    <a:chExt cx="2560680" cy="13752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10280400">
                      <a:off x="5094000" y="4863960"/>
                      <a:ext cx="622080" cy="643680"/>
                    </a:xfrm>
                    <a:prstGeom prst="hexagon">
                      <a:avLst>
                        <a:gd name="adj" fmla="val 25000"/>
                        <a:gd name="vf" fmla="val 115470"/>
                      </a:avLst>
                    </a:prstGeom>
                    <a:solidFill>
                      <a:srgbClr val="ff9900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725800" y="5162760"/>
                      <a:ext cx="474840" cy="93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rot="10914000">
                      <a:off x="6202800" y="4645800"/>
                      <a:ext cx="1209600" cy="884520"/>
                    </a:xfrm>
                    <a:prstGeom prst="pentagon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rot="10891200">
                      <a:off x="7148520" y="5615280"/>
                      <a:ext cx="456120" cy="38016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93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7396200" y="5226480"/>
                      <a:ext cx="4320" cy="401760"/>
                    </a:xfrm>
                    <a:prstGeom prst="line">
                      <a:avLst/>
                    </a:prstGeom>
                    <a:ln w="38160">
                      <a:solidFill>
                        <a:srgbClr val="2d252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 rot="21124200">
                    <a:off x="5149440" y="4947840"/>
                    <a:ext cx="507960" cy="50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8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000" spc="-1" strike="noStrike">
                        <a:solidFill>
                          <a:srgbClr val="2d2525"/>
                        </a:solidFill>
                        <a:latin typeface="Arial"/>
                        <a:ea typeface="Arial"/>
                      </a:rPr>
                      <a:t>C</a:t>
                    </a:r>
                    <a:endParaRPr b="0" lang="en-US" sz="30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2" name=""/>
            <p:cNvSpPr/>
            <p:nvPr/>
          </p:nvSpPr>
          <p:spPr>
            <a:xfrm flipV="1">
              <a:off x="4097160" y="1709640"/>
              <a:ext cx="63828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354560" y="3414240"/>
              <a:ext cx="552240" cy="114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35280" y="5214600"/>
              <a:ext cx="552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65200" y="1204920"/>
            <a:ext cx="3024720" cy="4664160"/>
            <a:chOff x="1465200" y="1204920"/>
            <a:chExt cx="3024720" cy="4664160"/>
          </a:xfrm>
        </p:grpSpPr>
        <p:sp>
          <p:nvSpPr>
            <p:cNvPr id="178" name=""/>
            <p:cNvSpPr/>
            <p:nvPr/>
          </p:nvSpPr>
          <p:spPr>
            <a:xfrm flipH="1" flipV="1">
              <a:off x="188928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12580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65200" y="1204920"/>
              <a:ext cx="2624400" cy="1325520"/>
              <a:chOff x="1465200" y="1204920"/>
              <a:chExt cx="2624400" cy="13255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465200" y="1204920"/>
                <a:ext cx="2600280" cy="1325520"/>
                <a:chOff x="1465200" y="1204920"/>
                <a:chExt cx="2600280" cy="132552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116520" y="1390320"/>
                  <a:ext cx="948960" cy="893880"/>
                  <a:chOff x="3116520" y="1390320"/>
                  <a:chExt cx="948960" cy="893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0988600">
                    <a:off x="345600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11652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 flipH="1">
                  <a:off x="278496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2200">
                  <a:off x="170064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6520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170100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53052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1701720" y="2873520"/>
              <a:ext cx="2599560" cy="1326960"/>
              <a:chOff x="1701720" y="2873520"/>
              <a:chExt cx="2599560" cy="13269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701720" y="2873520"/>
                <a:ext cx="2599560" cy="1326960"/>
                <a:chOff x="1701720" y="2873520"/>
                <a:chExt cx="2599560" cy="13269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352320" y="3058920"/>
                  <a:ext cx="948960" cy="895320"/>
                  <a:chOff x="3352320" y="3058920"/>
                  <a:chExt cx="948960" cy="8953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20988600">
                    <a:off x="369216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35232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 flipH="1">
                  <a:off x="302076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22200">
                  <a:off x="193680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70172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193716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370044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889280" y="4543560"/>
              <a:ext cx="2600640" cy="1325520"/>
              <a:chOff x="1889280" y="4543560"/>
              <a:chExt cx="2600640" cy="132552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540240" y="4729320"/>
                <a:ext cx="949680" cy="893520"/>
                <a:chOff x="3540240" y="4729320"/>
                <a:chExt cx="949680" cy="893520"/>
              </a:xfrm>
            </p:grpSpPr>
            <p:sp>
              <p:nvSpPr>
                <p:cNvPr id="202" name=""/>
                <p:cNvSpPr/>
                <p:nvPr/>
              </p:nvSpPr>
              <p:spPr>
                <a:xfrm rot="20988600">
                  <a:off x="388008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54024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 flipV="1">
                <a:off x="320832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2200">
                <a:off x="212544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928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212580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696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4803120" y="1097280"/>
            <a:ext cx="2908080" cy="4904280"/>
            <a:chOff x="4803120" y="1097280"/>
            <a:chExt cx="2908080" cy="4904280"/>
          </a:xfrm>
        </p:grpSpPr>
        <p:sp>
          <p:nvSpPr>
            <p:cNvPr id="210" name=""/>
            <p:cNvSpPr/>
            <p:nvPr/>
          </p:nvSpPr>
          <p:spPr>
            <a:xfrm flipV="1">
              <a:off x="727056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05456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803120" y="1097280"/>
              <a:ext cx="2908080" cy="4904280"/>
              <a:chOff x="4803120" y="1097280"/>
              <a:chExt cx="2908080" cy="490428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4803120" y="1097280"/>
                <a:ext cx="2560680" cy="1375200"/>
                <a:chOff x="4803120" y="1097280"/>
                <a:chExt cx="2560680" cy="13752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803120" y="1097280"/>
                  <a:ext cx="2560680" cy="1375200"/>
                  <a:chOff x="4803120" y="1097280"/>
                  <a:chExt cx="2560680" cy="1375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rot="10280400">
                    <a:off x="484812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47992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0914000">
                    <a:off x="595692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10891200">
                    <a:off x="690264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15032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 rot="21035400">
                  <a:off x="494604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934880" y="2806920"/>
                <a:ext cx="2560680" cy="1375200"/>
                <a:chOff x="4934880" y="2806920"/>
                <a:chExt cx="2560680" cy="13752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4934880" y="2806920"/>
                  <a:ext cx="2560680" cy="1375200"/>
                  <a:chOff x="4934880" y="2806920"/>
                  <a:chExt cx="2560680" cy="1375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10280400">
                    <a:off x="497988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561168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0914000">
                    <a:off x="608868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0891200">
                    <a:off x="703440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28208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"/>
                <p:cNvSpPr/>
                <p:nvPr/>
              </p:nvSpPr>
              <p:spPr>
                <a:xfrm rot="21035400">
                  <a:off x="505728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150520" y="4626360"/>
                <a:ext cx="2560680" cy="1375200"/>
                <a:chOff x="5150520" y="4626360"/>
                <a:chExt cx="2560680" cy="137520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5150520" y="4626360"/>
                  <a:ext cx="2560680" cy="1375200"/>
                  <a:chOff x="5150520" y="4626360"/>
                  <a:chExt cx="2560680" cy="13752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10280400">
                    <a:off x="519552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82732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0914000">
                    <a:off x="630432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0891200">
                    <a:off x="725004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49772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 rot="21124200">
                  <a:off x="525096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87360" y="1204920"/>
            <a:ext cx="3024720" cy="4664160"/>
            <a:chOff x="1287360" y="1204920"/>
            <a:chExt cx="3024720" cy="4664160"/>
          </a:xfrm>
        </p:grpSpPr>
        <p:sp>
          <p:nvSpPr>
            <p:cNvPr id="240" name=""/>
            <p:cNvSpPr/>
            <p:nvPr/>
          </p:nvSpPr>
          <p:spPr>
            <a:xfrm flipH="1" flipV="1">
              <a:off x="171144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194796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287360" y="1204920"/>
              <a:ext cx="2624400" cy="1325520"/>
              <a:chOff x="1287360" y="1204920"/>
              <a:chExt cx="2624400" cy="132552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1287360" y="1204920"/>
                <a:ext cx="2600280" cy="1325520"/>
                <a:chOff x="1287360" y="1204920"/>
                <a:chExt cx="2600280" cy="132552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938680" y="1390320"/>
                  <a:ext cx="948960" cy="893880"/>
                  <a:chOff x="2938680" y="1390320"/>
                  <a:chExt cx="948960" cy="893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988600">
                    <a:off x="327816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93868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 flipH="1">
                  <a:off x="260712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2200">
                  <a:off x="152280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28736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152316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335268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523880" y="2873520"/>
              <a:ext cx="2599560" cy="1326960"/>
              <a:chOff x="1523880" y="2873520"/>
              <a:chExt cx="2599560" cy="132696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523880" y="2873520"/>
                <a:ext cx="2599560" cy="1326960"/>
                <a:chOff x="1523880" y="2873520"/>
                <a:chExt cx="2599560" cy="132696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3174480" y="3058920"/>
                  <a:ext cx="948960" cy="895320"/>
                  <a:chOff x="3174480" y="3058920"/>
                  <a:chExt cx="948960" cy="8953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20988600">
                    <a:off x="351432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17448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>
                  <a:off x="284292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2200">
                  <a:off x="175896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2388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>
                  <a:off x="175932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352260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711440" y="4543560"/>
              <a:ext cx="2600640" cy="1325520"/>
              <a:chOff x="1711440" y="4543560"/>
              <a:chExt cx="2600640" cy="132552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3362400" y="4729320"/>
                <a:ext cx="949680" cy="893520"/>
                <a:chOff x="3362400" y="4729320"/>
                <a:chExt cx="949680" cy="893520"/>
              </a:xfrm>
            </p:grpSpPr>
            <p:sp>
              <p:nvSpPr>
                <p:cNvPr id="264" name=""/>
                <p:cNvSpPr/>
                <p:nvPr/>
              </p:nvSpPr>
              <p:spPr>
                <a:xfrm rot="20988600">
                  <a:off x="370224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6240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 flipH="1" flipV="1">
                <a:off x="303048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2200">
                <a:off x="194760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1144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194796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5912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4980960" y="1097280"/>
            <a:ext cx="2908080" cy="4904280"/>
            <a:chOff x="4980960" y="1097280"/>
            <a:chExt cx="2908080" cy="4904280"/>
          </a:xfrm>
        </p:grpSpPr>
        <p:sp>
          <p:nvSpPr>
            <p:cNvPr id="272" name=""/>
            <p:cNvSpPr/>
            <p:nvPr/>
          </p:nvSpPr>
          <p:spPr>
            <a:xfrm flipV="1">
              <a:off x="744840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23240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980960" y="1097280"/>
              <a:ext cx="2908080" cy="4904280"/>
              <a:chOff x="4980960" y="1097280"/>
              <a:chExt cx="2908080" cy="49042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980960" y="1097280"/>
                <a:ext cx="2560680" cy="1375200"/>
                <a:chOff x="4980960" y="1097280"/>
                <a:chExt cx="2560680" cy="137520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4980960" y="1097280"/>
                  <a:ext cx="2560680" cy="1375200"/>
                  <a:chOff x="4980960" y="1097280"/>
                  <a:chExt cx="2560680" cy="13752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10280400">
                    <a:off x="502596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565776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10914000">
                    <a:off x="613476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rot="10891200">
                    <a:off x="708048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32816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 rot="21035400">
                  <a:off x="512388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112720" y="2806920"/>
                <a:ext cx="2560680" cy="1375200"/>
                <a:chOff x="5112720" y="2806920"/>
                <a:chExt cx="2560680" cy="137520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5112720" y="2806920"/>
                  <a:ext cx="2560680" cy="1375200"/>
                  <a:chOff x="5112720" y="2806920"/>
                  <a:chExt cx="2560680" cy="137520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10280400">
                    <a:off x="515772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78952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0914000">
                    <a:off x="626652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0891200">
                    <a:off x="721224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45992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" name=""/>
                <p:cNvSpPr/>
                <p:nvPr/>
              </p:nvSpPr>
              <p:spPr>
                <a:xfrm rot="21035400">
                  <a:off x="523512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5328360" y="4626360"/>
                <a:ext cx="2560680" cy="1375200"/>
                <a:chOff x="5328360" y="4626360"/>
                <a:chExt cx="2560680" cy="137520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5328360" y="4626360"/>
                  <a:ext cx="2560680" cy="1375200"/>
                  <a:chOff x="5328360" y="4626360"/>
                  <a:chExt cx="2560680" cy="137520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10280400">
                    <a:off x="537336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00516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0914000">
                    <a:off x="648216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0891200">
                    <a:off x="742788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7556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" name=""/>
                <p:cNvSpPr/>
                <p:nvPr/>
              </p:nvSpPr>
              <p:spPr>
                <a:xfrm rot="21124200">
                  <a:off x="542880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84320" y="1204920"/>
            <a:ext cx="3024720" cy="4664160"/>
            <a:chOff x="1084320" y="1204920"/>
            <a:chExt cx="3024720" cy="4664160"/>
          </a:xfrm>
        </p:grpSpPr>
        <p:sp>
          <p:nvSpPr>
            <p:cNvPr id="302" name=""/>
            <p:cNvSpPr/>
            <p:nvPr/>
          </p:nvSpPr>
          <p:spPr>
            <a:xfrm flipH="1" flipV="1">
              <a:off x="150840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174492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084320" y="1204920"/>
              <a:ext cx="2624400" cy="1325520"/>
              <a:chOff x="1084320" y="1204920"/>
              <a:chExt cx="2624400" cy="132552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1084320" y="1204920"/>
                <a:ext cx="2600280" cy="1325520"/>
                <a:chOff x="1084320" y="1204920"/>
                <a:chExt cx="2600280" cy="132552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2735640" y="1390320"/>
                  <a:ext cx="948960" cy="893880"/>
                  <a:chOff x="2735640" y="1390320"/>
                  <a:chExt cx="948960" cy="893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20988600">
                    <a:off x="307512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73564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" name=""/>
                <p:cNvSpPr/>
                <p:nvPr/>
              </p:nvSpPr>
              <p:spPr>
                <a:xfrm flipH="1">
                  <a:off x="240408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22200">
                  <a:off x="131976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08432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flipV="1">
                  <a:off x="132012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314964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320840" y="2873520"/>
              <a:ext cx="2599560" cy="1326960"/>
              <a:chOff x="1320840" y="2873520"/>
              <a:chExt cx="2599560" cy="132696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1320840" y="2873520"/>
                <a:ext cx="2599560" cy="1326960"/>
                <a:chOff x="1320840" y="2873520"/>
                <a:chExt cx="2599560" cy="132696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971440" y="3058920"/>
                  <a:ext cx="948960" cy="895320"/>
                  <a:chOff x="2971440" y="3058920"/>
                  <a:chExt cx="948960" cy="8953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20988600">
                    <a:off x="331128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97144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" name=""/>
                <p:cNvSpPr/>
                <p:nvPr/>
              </p:nvSpPr>
              <p:spPr>
                <a:xfrm flipH="1">
                  <a:off x="263988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22200">
                  <a:off x="155592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32084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155628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331956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508400" y="4543560"/>
              <a:ext cx="2600640" cy="1325520"/>
              <a:chOff x="1508400" y="4543560"/>
              <a:chExt cx="2600640" cy="13255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3159360" y="4729320"/>
                <a:ext cx="949680" cy="893520"/>
                <a:chOff x="3159360" y="4729320"/>
                <a:chExt cx="949680" cy="893520"/>
              </a:xfrm>
            </p:grpSpPr>
            <p:sp>
              <p:nvSpPr>
                <p:cNvPr id="326" name=""/>
                <p:cNvSpPr/>
                <p:nvPr/>
              </p:nvSpPr>
              <p:spPr>
                <a:xfrm rot="20988600">
                  <a:off x="349920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15936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 flipH="1" flipV="1">
                <a:off x="282744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2200">
                <a:off x="174456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0840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174492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5608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5184360" y="1097280"/>
            <a:ext cx="2908080" cy="4904280"/>
            <a:chOff x="5184360" y="1097280"/>
            <a:chExt cx="2908080" cy="4904280"/>
          </a:xfrm>
        </p:grpSpPr>
        <p:sp>
          <p:nvSpPr>
            <p:cNvPr id="334" name=""/>
            <p:cNvSpPr/>
            <p:nvPr/>
          </p:nvSpPr>
          <p:spPr>
            <a:xfrm flipV="1">
              <a:off x="765180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43580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184360" y="1097280"/>
              <a:ext cx="2908080" cy="4904280"/>
              <a:chOff x="5184360" y="1097280"/>
              <a:chExt cx="2908080" cy="49042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184360" y="1097280"/>
                <a:ext cx="2560680" cy="1375200"/>
                <a:chOff x="5184360" y="1097280"/>
                <a:chExt cx="2560680" cy="137520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5184360" y="1097280"/>
                  <a:ext cx="2560680" cy="1375200"/>
                  <a:chOff x="5184360" y="1097280"/>
                  <a:chExt cx="2560680" cy="13752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10280400">
                    <a:off x="522936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586116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0914000">
                    <a:off x="633816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10891200">
                    <a:off x="728388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53156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 rot="21035400">
                  <a:off x="532728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316120" y="2806920"/>
                <a:ext cx="2560680" cy="1375200"/>
                <a:chOff x="5316120" y="2806920"/>
                <a:chExt cx="2560680" cy="137520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5316120" y="2806920"/>
                  <a:ext cx="2560680" cy="1375200"/>
                  <a:chOff x="5316120" y="2806920"/>
                  <a:chExt cx="2560680" cy="13752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10280400">
                    <a:off x="536112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99292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0914000">
                    <a:off x="646992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0891200">
                    <a:off x="741564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66332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 rot="21035400">
                  <a:off x="543852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5531760" y="4626360"/>
                <a:ext cx="2560680" cy="1375200"/>
                <a:chOff x="5531760" y="4626360"/>
                <a:chExt cx="2560680" cy="137520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5531760" y="4626360"/>
                  <a:ext cx="2560680" cy="1375200"/>
                  <a:chOff x="5531760" y="4626360"/>
                  <a:chExt cx="2560680" cy="13752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rot="10280400">
                    <a:off x="557676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20856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0914000">
                    <a:off x="668556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10891200">
                    <a:off x="763128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87896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 rot="21124200">
                  <a:off x="563220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0160" y="1204920"/>
            <a:ext cx="3024720" cy="4664160"/>
            <a:chOff x="830160" y="1204920"/>
            <a:chExt cx="3024720" cy="4664160"/>
          </a:xfrm>
        </p:grpSpPr>
        <p:sp>
          <p:nvSpPr>
            <p:cNvPr id="364" name=""/>
            <p:cNvSpPr/>
            <p:nvPr/>
          </p:nvSpPr>
          <p:spPr>
            <a:xfrm flipH="1" flipV="1">
              <a:off x="125424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149076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830160" y="1204920"/>
              <a:ext cx="2624400" cy="1325520"/>
              <a:chOff x="830160" y="1204920"/>
              <a:chExt cx="2624400" cy="132552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830160" y="1204920"/>
                <a:ext cx="2600280" cy="1325520"/>
                <a:chOff x="830160" y="1204920"/>
                <a:chExt cx="2600280" cy="132552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2481480" y="1390320"/>
                  <a:ext cx="948960" cy="893880"/>
                  <a:chOff x="2481480" y="1390320"/>
                  <a:chExt cx="948960" cy="8938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20988600">
                    <a:off x="282096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48148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 flipH="1">
                  <a:off x="214992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22200">
                  <a:off x="106560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3016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flipV="1">
                  <a:off x="106596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289548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066680" y="2873520"/>
              <a:ext cx="2599560" cy="1326960"/>
              <a:chOff x="1066680" y="2873520"/>
              <a:chExt cx="2599560" cy="132696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1066680" y="2873520"/>
                <a:ext cx="2599560" cy="1326960"/>
                <a:chOff x="1066680" y="2873520"/>
                <a:chExt cx="2599560" cy="132696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717280" y="3058920"/>
                  <a:ext cx="948960" cy="895320"/>
                  <a:chOff x="2717280" y="3058920"/>
                  <a:chExt cx="948960" cy="8953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20988600">
                    <a:off x="305712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71728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1" name=""/>
                <p:cNvSpPr/>
                <p:nvPr/>
              </p:nvSpPr>
              <p:spPr>
                <a:xfrm flipH="1">
                  <a:off x="238572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22200">
                  <a:off x="130176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06668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>
                  <a:off x="130212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306540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254240" y="4543560"/>
              <a:ext cx="2600640" cy="1325520"/>
              <a:chOff x="1254240" y="4543560"/>
              <a:chExt cx="2600640" cy="13255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2905200" y="4729320"/>
                <a:ext cx="949680" cy="893520"/>
                <a:chOff x="2905200" y="4729320"/>
                <a:chExt cx="949680" cy="893520"/>
              </a:xfrm>
            </p:grpSpPr>
            <p:sp>
              <p:nvSpPr>
                <p:cNvPr id="388" name=""/>
                <p:cNvSpPr/>
                <p:nvPr/>
              </p:nvSpPr>
              <p:spPr>
                <a:xfrm rot="20988600">
                  <a:off x="324504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90520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H="1" flipV="1">
                <a:off x="257328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2200">
                <a:off x="149040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5424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flipV="1">
                <a:off x="149076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0192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5438160" y="1097280"/>
            <a:ext cx="2908080" cy="4904280"/>
            <a:chOff x="5438160" y="1097280"/>
            <a:chExt cx="2908080" cy="4904280"/>
          </a:xfrm>
        </p:grpSpPr>
        <p:sp>
          <p:nvSpPr>
            <p:cNvPr id="396" name=""/>
            <p:cNvSpPr/>
            <p:nvPr/>
          </p:nvSpPr>
          <p:spPr>
            <a:xfrm flipV="1">
              <a:off x="790560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68960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5438160" y="1097280"/>
              <a:ext cx="2908080" cy="4904280"/>
              <a:chOff x="5438160" y="1097280"/>
              <a:chExt cx="2908080" cy="490428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5438160" y="1097280"/>
                <a:ext cx="2560680" cy="1375200"/>
                <a:chOff x="5438160" y="1097280"/>
                <a:chExt cx="2560680" cy="137520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5438160" y="1097280"/>
                  <a:ext cx="2560680" cy="1375200"/>
                  <a:chOff x="5438160" y="1097280"/>
                  <a:chExt cx="2560680" cy="1375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10280400">
                    <a:off x="548316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11496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0914000">
                    <a:off x="659196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10891200">
                    <a:off x="753768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78536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 rot="21035400">
                  <a:off x="558108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69920" y="2806920"/>
                <a:ext cx="2560680" cy="1375200"/>
                <a:chOff x="5569920" y="2806920"/>
                <a:chExt cx="2560680" cy="137520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5569920" y="2806920"/>
                  <a:ext cx="2560680" cy="1375200"/>
                  <a:chOff x="5569920" y="2806920"/>
                  <a:chExt cx="2560680" cy="13752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10280400">
                    <a:off x="561492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24672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10914000">
                    <a:off x="672372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0891200">
                    <a:off x="766944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1712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1035400">
                  <a:off x="569232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5785560" y="4626360"/>
                <a:ext cx="2560680" cy="1375200"/>
                <a:chOff x="5785560" y="4626360"/>
                <a:chExt cx="2560680" cy="137520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5785560" y="4626360"/>
                  <a:ext cx="2560680" cy="1375200"/>
                  <a:chOff x="5785560" y="4626360"/>
                  <a:chExt cx="2560680" cy="137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10280400">
                    <a:off x="583056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46236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10914000">
                    <a:off x="693936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10891200">
                    <a:off x="788508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13276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2" name=""/>
                <p:cNvSpPr/>
                <p:nvPr/>
              </p:nvSpPr>
              <p:spPr>
                <a:xfrm rot="21124200">
                  <a:off x="588600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dcd"/>
              </a:gs>
              <a:gs pos="100000">
                <a:srgbClr val="a7b4b7"/>
              </a:gs>
            </a:gsLst>
            <a:lin ang="13500000"/>
          </a:gradFill>
          <a:ln w="76320">
            <a:solidFill>
              <a:srgbClr val="4e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25600" y="1204920"/>
            <a:ext cx="3024720" cy="4664160"/>
            <a:chOff x="525600" y="1204920"/>
            <a:chExt cx="3024720" cy="4664160"/>
          </a:xfrm>
        </p:grpSpPr>
        <p:sp>
          <p:nvSpPr>
            <p:cNvPr id="426" name=""/>
            <p:cNvSpPr/>
            <p:nvPr/>
          </p:nvSpPr>
          <p:spPr>
            <a:xfrm flipH="1" flipV="1">
              <a:off x="949680" y="2503800"/>
              <a:ext cx="14400" cy="40464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1186200" y="4171680"/>
              <a:ext cx="14400" cy="40500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525600" y="1204920"/>
              <a:ext cx="2624400" cy="1325520"/>
              <a:chOff x="525600" y="1204920"/>
              <a:chExt cx="2624400" cy="132552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525600" y="1204920"/>
                <a:ext cx="2600280" cy="1325520"/>
                <a:chOff x="525600" y="1204920"/>
                <a:chExt cx="2600280" cy="132552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2176920" y="1390320"/>
                  <a:ext cx="948960" cy="893880"/>
                  <a:chOff x="2176920" y="1390320"/>
                  <a:chExt cx="948960" cy="8938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20988600">
                    <a:off x="2516400" y="1592640"/>
                    <a:ext cx="556200" cy="647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76920" y="1390320"/>
                    <a:ext cx="432720" cy="60696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3" name=""/>
                <p:cNvSpPr/>
                <p:nvPr/>
              </p:nvSpPr>
              <p:spPr>
                <a:xfrm flipH="1">
                  <a:off x="1845360" y="200808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22200">
                  <a:off x="761040" y="1637280"/>
                  <a:ext cx="1081440" cy="88956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25600" y="1204920"/>
                  <a:ext cx="407880" cy="382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>
                  <a:off x="761400" y="1575360"/>
                  <a:ext cx="13680" cy="4042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2590920" y="1660680"/>
                <a:ext cx="5590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A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62120" y="2873520"/>
              <a:ext cx="2599560" cy="1326960"/>
              <a:chOff x="762120" y="2873520"/>
              <a:chExt cx="2599560" cy="132696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762120" y="2873520"/>
                <a:ext cx="2599560" cy="1326960"/>
                <a:chOff x="762120" y="2873520"/>
                <a:chExt cx="2599560" cy="132696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2412720" y="3058920"/>
                  <a:ext cx="948960" cy="895320"/>
                  <a:chOff x="2412720" y="3058920"/>
                  <a:chExt cx="948960" cy="895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rot="20988600">
                    <a:off x="2752560" y="3261600"/>
                    <a:ext cx="556200" cy="64836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412720" y="3058920"/>
                    <a:ext cx="432360" cy="607680"/>
                  </a:xfrm>
                  <a:prstGeom prst="pentagon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 flipH="1">
                  <a:off x="2081160" y="3677760"/>
                  <a:ext cx="424440" cy="288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22200">
                  <a:off x="997200" y="3306240"/>
                  <a:ext cx="1080720" cy="890640"/>
                </a:xfrm>
                <a:prstGeom prst="pentagon">
                  <a:avLst/>
                </a:prstGeom>
                <a:solidFill>
                  <a:srgbClr val="0000ff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62120" y="2873520"/>
                  <a:ext cx="407520" cy="382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997560" y="3244680"/>
                  <a:ext cx="13680" cy="404640"/>
                </a:xfrm>
                <a:prstGeom prst="line">
                  <a:avLst/>
                </a:prstGeom>
                <a:ln w="381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" name=""/>
              <p:cNvSpPr/>
              <p:nvPr/>
            </p:nvSpPr>
            <p:spPr>
              <a:xfrm>
                <a:off x="2760840" y="3372120"/>
                <a:ext cx="49212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949680" y="4543560"/>
              <a:ext cx="2600640" cy="1325520"/>
              <a:chOff x="949680" y="4543560"/>
              <a:chExt cx="2600640" cy="132552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2600640" y="4729320"/>
                <a:ext cx="949680" cy="893520"/>
                <a:chOff x="2600640" y="4729320"/>
                <a:chExt cx="949680" cy="893520"/>
              </a:xfrm>
            </p:grpSpPr>
            <p:sp>
              <p:nvSpPr>
                <p:cNvPr id="450" name=""/>
                <p:cNvSpPr/>
                <p:nvPr/>
              </p:nvSpPr>
              <p:spPr>
                <a:xfrm rot="20988600">
                  <a:off x="2940480" y="4931640"/>
                  <a:ext cx="556560" cy="646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600640" y="4729320"/>
                  <a:ext cx="432720" cy="606600"/>
                </a:xfrm>
                <a:prstGeom prst="pentagon">
                  <a:avLst/>
                </a:prstGeom>
                <a:solidFill>
                  <a:srgbClr val="ff9900"/>
                </a:solidFill>
                <a:ln w="9360">
                  <a:solidFill>
                    <a:srgbClr val="2d252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 flipH="1" flipV="1">
                <a:off x="2268720" y="5348160"/>
                <a:ext cx="424080" cy="1008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2200">
                <a:off x="1185840" y="4975200"/>
                <a:ext cx="1081080" cy="890280"/>
              </a:xfrm>
              <a:prstGeom prst="pentagon">
                <a:avLst/>
              </a:prstGeom>
              <a:solidFill>
                <a:srgbClr val="0000ff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49680" y="4543560"/>
                <a:ext cx="407880" cy="382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1186200" y="4913640"/>
                <a:ext cx="14400" cy="404640"/>
              </a:xfrm>
              <a:prstGeom prst="line">
                <a:avLst/>
              </a:prstGeom>
              <a:ln w="381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97360" y="4996080"/>
                <a:ext cx="50796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2d2525"/>
                    </a:solidFill>
                    <a:latin typeface="Arial"/>
                    <a:ea typeface="Arial"/>
                  </a:rPr>
                  <a:t>G</a:t>
                </a:r>
                <a:endParaRPr b="0" lang="en-US" sz="30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5768280" y="1097280"/>
            <a:ext cx="2908080" cy="4904280"/>
            <a:chOff x="5768280" y="1097280"/>
            <a:chExt cx="2908080" cy="4904280"/>
          </a:xfrm>
        </p:grpSpPr>
        <p:sp>
          <p:nvSpPr>
            <p:cNvPr id="458" name=""/>
            <p:cNvSpPr/>
            <p:nvPr/>
          </p:nvSpPr>
          <p:spPr>
            <a:xfrm flipV="1">
              <a:off x="8235720" y="4186080"/>
              <a:ext cx="11160" cy="46512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019720" y="2442960"/>
              <a:ext cx="11160" cy="387360"/>
            </a:xfrm>
            <a:prstGeom prst="line">
              <a:avLst/>
            </a:prstGeom>
            <a:ln w="381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5768280" y="1097280"/>
              <a:ext cx="2908080" cy="4904280"/>
              <a:chOff x="5768280" y="1097280"/>
              <a:chExt cx="2908080" cy="490428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5768280" y="1097280"/>
                <a:ext cx="2560680" cy="1375200"/>
                <a:chOff x="5768280" y="1097280"/>
                <a:chExt cx="2560680" cy="13752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5768280" y="1097280"/>
                  <a:ext cx="2560680" cy="1375200"/>
                  <a:chOff x="5768280" y="1097280"/>
                  <a:chExt cx="2560680" cy="13752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10280400">
                    <a:off x="5813280" y="133488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445080" y="163368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10914000">
                    <a:off x="6922080" y="111672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0891200">
                    <a:off x="7867800" y="208620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115480" y="169740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 rot="21035400">
                  <a:off x="5911200" y="1409040"/>
                  <a:ext cx="55872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00040" y="2806920"/>
                <a:ext cx="2560680" cy="1375200"/>
                <a:chOff x="5900040" y="2806920"/>
                <a:chExt cx="2560680" cy="137520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5900040" y="2806920"/>
                  <a:ext cx="2560680" cy="1375200"/>
                  <a:chOff x="5900040" y="2806920"/>
                  <a:chExt cx="2560680" cy="13752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10280400">
                    <a:off x="5945040" y="304452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576840" y="334332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10914000">
                    <a:off x="7053840" y="282636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0891200">
                    <a:off x="7999560" y="379584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8247240" y="340704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rot="21035400">
                  <a:off x="6022440" y="3120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115680" y="4626360"/>
                <a:ext cx="2560680" cy="1375200"/>
                <a:chOff x="6115680" y="4626360"/>
                <a:chExt cx="2560680" cy="137520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6115680" y="4626360"/>
                  <a:ext cx="2560680" cy="1375200"/>
                  <a:chOff x="6115680" y="4626360"/>
                  <a:chExt cx="2560680" cy="137520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rot="10280400">
                    <a:off x="6160680" y="4863960"/>
                    <a:ext cx="622080" cy="6436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792480" y="5162760"/>
                    <a:ext cx="474840" cy="93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0914000">
                    <a:off x="7269480" y="4645800"/>
                    <a:ext cx="1209600" cy="884520"/>
                  </a:xfrm>
                  <a:prstGeom prst="pentagon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0891200">
                    <a:off x="8215200" y="5615280"/>
                    <a:ext cx="456120" cy="3801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8462880" y="5226480"/>
                    <a:ext cx="4320" cy="401760"/>
                  </a:xfrm>
                  <a:prstGeom prst="line">
                    <a:avLst/>
                  </a:prstGeom>
                  <a:ln w="38160">
                    <a:solidFill>
                      <a:srgbClr val="2d252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 rot="21124200">
                  <a:off x="6216120" y="4947840"/>
                  <a:ext cx="507960" cy="50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2d2525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3000" spc="-1" strike="noStrike">
                    <a:solidFill>
                      <a:srgbClr val="2d2525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2520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DNA Unzips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47920" y="5742000"/>
            <a:ext cx="32734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Lef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f 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27720" y="5742000"/>
            <a:ext cx="32734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Right Strand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2700"/>
                </a:solidFill>
                <a:latin typeface="Arial"/>
                <a:ea typeface="Arial"/>
              </a:rPr>
              <a:t>of Original DN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9:34:53Z</dcterms:created>
  <dc:creator>Plano ISD</dc:creator>
  <dc:description/>
  <dc:language>en-US</dc:language>
  <cp:lastModifiedBy>Plano ISD</cp:lastModifiedBy>
  <dcterms:modified xsi:type="dcterms:W3CDTF">2004-11-16T15:36:09Z</dcterms:modified>
  <cp:revision>29</cp:revision>
  <dc:subject/>
  <dc:title>Understanding DNA</dc:title>
</cp:coreProperties>
</file>